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5BE6-5E8D-4C4D-8298-F0971A18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343-CF4C-4064-8B05-4C877742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0D5-F759-4902-B1C2-D8D101AC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27B-29EB-41F8-8B62-D374405D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3EC6-DB71-48E2-8548-5013212A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CB56-2AD9-4801-A741-81F7B5D3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0698-55E5-4E31-91CE-B2818D02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022A-A582-4F77-8338-30C520ED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EABA-7F90-4229-AB61-6B2A8095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3F60-4A42-4792-99C4-590C42F8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2AC3-33E8-4F67-97FE-4C73AAD7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DB3-A765-4CEA-A7CA-2D5F0BC6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9E78-FFDF-4F87-8EF1-AE561A66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3A07-4C7B-49AC-971A-D2EFC8C9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57E3-D48F-442F-93AD-1F0211F3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3950-4CDD-4462-AA6B-05AA3139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2297-2629-442C-B1D5-1A280FBB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CF5-8D20-4F3F-8CFD-A47EE0CB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1F9-49AD-4C01-B595-69EF9E62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63F-C2FF-46A8-A0D1-1A87993E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049-4DE1-4A17-B26C-D750E5CD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77A-0D0E-4779-8230-B7EECC37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1CBE-A6A8-4ABC-9E82-FA37BFD6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AD6-A4A1-4539-9FA3-186F4379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3D26-ED85-4A1C-A6B0-BE7AEBFD6D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EFCE-64FA-4157-B13C-59A4831156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b7"/>
                </a:solidFill>
                <a:latin typeface="Arial Black"/>
              </a:rPr>
              <a:t>Bambú japoné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298152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8360" y="443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38275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No hay que ser agricultor para saber que una buena cosecha requiere de buena semilla, buen abono y riego constante. También es obvio que quien cultiva la tierra no se impacienta frente a la semilla sembrada, jalándola con el riesgo de echarla a perder, gritándole con todas sus fuerzas: 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¡Crece, por favor!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21320" y="476280"/>
            <a:ext cx="4168800" cy="6259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933720"/>
            <a:ext cx="852948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Hay algo muy curioso que sucede con el bambú japonés y que lo transforma en no apto para impacientes: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embras la semilla, la abonas,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te ocupas de regarla constantemente.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urante los primeros meses no sucede nada apreciable.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n realidad, no pasa nada con la semilla durante los primeros siete años, a tal punto que, un cultivador inexperto estaría convencido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e haber comprado semillas infértiles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4819680" cy="3210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11280" y="603000"/>
            <a:ext cx="453708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n embargo, durante el séptimo año, en un período de sólo seis semanas la planta de bambú crece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¡mas de 30 metros!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¿Tardó sólo seis semanas crecer?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No, la verdad es que se tomó siete años y seis semanas en desarrollarse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urante los primeros siete años de aparente inactividad, este bambú estaba generando un complejo sistema de raíces que le permitirían sostener el crecimiento, que iba a tener después de siete años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209760" cy="48294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634080" cy="4978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604440"/>
            <a:ext cx="82310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n embargo, en la vida cotidiana, muchas veces queremos encontrar soluciones rápidas y triunfos apresurados, sin entender que el éxito es simplemente resultado del crecimiento intern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que éste requiere tiempo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e igual manera, es necesario entender que en muchas ocasiones estaremos frente a situaciones en las que creemos que nada está sucediendo.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esto puede ser extremadamente frustrante.</a:t>
            </a:r>
            <a:br>
              <a:rPr sz="4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2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036440"/>
            <a:ext cx="417492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n esos momento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(que todos tenemos), recordar el ciclo de maduración del bambú japonés y aceptar que "en tanto no bajemos los brazos" ni abandonemos por no "ver" el resultado que esperamos, sí está sucediendo algo, dentro nuestro…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stamos creciendo, madurando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88000" y="692280"/>
            <a:ext cx="3833640" cy="576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4200" y="1257480"/>
            <a:ext cx="6265800" cy="5067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49636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Quienes no se dan por vencidos, van gradual e imperceptiblemente creando los hábitos y el temple que les permitirá sostener el éxito cuando éste al fin se materialice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 no consigues lo que anhelas, no desesperes...quizá sólo estés echando raíces..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 </a:t>
            </a:r>
            <a:br>
              <a:rPr sz="2000"/>
            </a:br>
            <a:r>
              <a:rPr b="0" i="1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s-ES_tradnl" sz="2000" spc="-1" strike="noStrike">
                <a:solidFill>
                  <a:srgbClr val="ffffff"/>
                </a:solidFill>
                <a:latin typeface="Arial Black"/>
              </a:rPr>
              <a:t>Autor desconocido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9:50:00Z</dcterms:created>
  <dc:creator>María Marta</dc:creator>
  <dc:description/>
  <dc:language>en-US</dc:language>
  <cp:lastModifiedBy>María Marta</cp:lastModifiedBy>
  <dcterms:modified xsi:type="dcterms:W3CDTF">2008-12-16T20:18:50Z</dcterms:modified>
  <cp:revision>9</cp:revision>
  <dc:subject/>
  <dc:title>Bambú japonés</dc:title>
</cp:coreProperties>
</file>