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7B6B-8C81-434C-BBB5-9617238FB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7213-74D4-46B1-A941-0404EA8C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C96-8591-4EC8-A0D7-FBBE04EF9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F32B-9772-4BCF-A09D-6DD73BE6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5B4F-3D38-4E99-A9EA-311ED893C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D046-978B-407F-AF5F-5AD4FCC6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F20F-13F4-464E-A4C0-811D4360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435B-C753-4BB9-91A0-869F3091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197F-6E1A-4300-A532-D5F21D05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2381-87D1-44EA-A7A3-22BDD5B8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CFCB-CC7C-41A0-BBEE-020FDAA8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853-6619-462F-B150-9A41F1E6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EF8B-007B-4BBD-B09A-74107EF9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98D0-6C8F-4248-9989-862A6C39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7E6F8-6999-4DCB-ACEB-BC0E0DA0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1A424-B00A-49B4-9059-72A45FD1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3788-F77C-451C-B3A9-5A847190D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705F-8D87-4764-9C4C-3A7F676B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7D3-CE4B-488D-96A8-029904A9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BED-F62A-4035-B836-BE98596A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3A6-2538-4781-8B92-22639210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0FCC-2B2E-4249-8F23-F02499DA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C308-B1AD-48C2-9A8C-80751111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3866-8721-4531-86A2-F7605A84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6861-9436-4C41-A32F-BF81C06041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10EF-3A35-421F-B09E-E8274A9E44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b7"/>
                </a:solidFill>
                <a:latin typeface="Arial Black"/>
              </a:rPr>
              <a:t>Bambú japoné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298152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836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38275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No hay que ser agricultor para saber que una buena cosecha requiere de buena semilla, buen abono y riego constante. También es obvio que quien cultiva la tierra no se impacienta frente a la semilla sembrada, jalándola con el riesgo de echarla a perder, gritándole con todas sus fuerzas: 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¡Crece, por favor!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21320" y="476280"/>
            <a:ext cx="4168800" cy="6259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933720"/>
            <a:ext cx="852948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Hay algo muy curioso que sucede con el bambú japonés y que lo transforma en no apto para impacientes: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embras la semilla, la abonas,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te ocupas de regarla constantemente.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urante los primeros meses no sucede nada apreciable.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n realidad, no pasa nada con la semilla durante los primeros siete años, a tal punto que, un cultivador inexperto estaría convencido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e haber comprado semillas infértiles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4819680" cy="3210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11280" y="603000"/>
            <a:ext cx="453708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n embargo, durante el séptimo año, en un período de sólo seis semanas la planta de bambú crece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¡mas de 30 metros!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¿Tardó sólo seis semanas crecer?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No, la verdad es que se tomó siete años y seis semanas en desarrollarse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urante los primeros siete años de aparente inactividad, este bambú estaba generando un complejo sistema de raíces que le permitirían sostener el crecimiento, que iba a tener después de siete años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209760" cy="48294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634080" cy="4978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604440"/>
            <a:ext cx="82310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n embargo, en la vida cotidiana, muchas veces queremos encontrar soluciones rápidas y triunfos apresurados, sin entender que el éxito es simplemente resultado del crecimiento intern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que éste requiere tiempo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e igual manera, es necesario entender que en muchas ocasiones estaremos frente a situaciones en las que creemos que nada está sucediendo.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esto puede ser extremadamente frustrante.</a:t>
            </a:r>
            <a:br>
              <a:rPr sz="4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2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036440"/>
            <a:ext cx="417492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n esos momento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(que todos tenemos), recordar el ciclo de maduración del bambú japonés y aceptar que "en tanto no bajemos los brazos" ni abandonemos por no "ver" el resultado que esperamos, sí está sucediendo algo, dentro nuestro…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stamos creciendo, madurando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88000" y="692280"/>
            <a:ext cx="3833640" cy="576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4200" y="1257480"/>
            <a:ext cx="6265800" cy="5067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49636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Quienes no se dan por vencidos, van gradual e imperceptiblemente creando los hábitos y el temple que les permitirá sostener el éxito cuando éste al fin se materialice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 no consigues lo que anhelas, no desesperes...quizá sólo estés echando raíces..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 </a:t>
            </a:r>
            <a:br>
              <a:rPr sz="2000"/>
            </a:br>
            <a:r>
              <a:rPr b="0" i="1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s-ES_tradnl" sz="2000" spc="-1" strike="noStrike">
                <a:solidFill>
                  <a:srgbClr val="ffffff"/>
                </a:solidFill>
                <a:latin typeface="Arial Black"/>
              </a:rPr>
              <a:t>Autor desconocido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9:50:00Z</dcterms:created>
  <dc:creator>María Marta</dc:creator>
  <dc:description/>
  <dc:language>en-US</dc:language>
  <cp:lastModifiedBy>María Marta</cp:lastModifiedBy>
  <dcterms:modified xsi:type="dcterms:W3CDTF">2008-12-16T20:18:50Z</dcterms:modified>
  <cp:revision>9</cp:revision>
  <dc:subject/>
  <dc:title>Bambú japonés</dc:title>
</cp:coreProperties>
</file>