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9.png" ContentType="image/png"/>
  <Override PartName="/ppt/media/image26.gif" ContentType="image/gif"/>
  <Override PartName="/ppt/media/image10.wmf" ContentType="image/x-wmf"/>
  <Override PartName="/ppt/media/image2.png" ContentType="image/png"/>
  <Override PartName="/ppt/media/image32.png" ContentType="image/png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14.png" ContentType="image/png"/>
  <Override PartName="/ppt/media/image9.wmf" ContentType="image/x-wmf"/>
  <Override PartName="/ppt/media/image15.png" ContentType="image/png"/>
  <Override PartName="/ppt/media/image16.png" ContentType="image/png"/>
  <Override PartName="/ppt/media/image13.gif" ContentType="image/gif"/>
  <Override PartName="/ppt/media/image30.png" ContentType="image/png"/>
  <Override PartName="/ppt/media/image25.gif" ContentType="image/gif"/>
  <Override PartName="/ppt/media/image28.png" ContentType="image/png"/>
  <Override PartName="/ppt/media/image5.wmf" ContentType="image/x-wmf"/>
  <Override PartName="/ppt/media/image4.wmf" ContentType="image/x-wmf"/>
  <Override PartName="/ppt/media/image3.png" ContentType="image/png"/>
  <Override PartName="/ppt/media/image12.gif" ContentType="image/gif"/>
  <Override PartName="/ppt/media/image17.jpeg" ContentType="image/jpeg"/>
  <Override PartName="/ppt/media/image1.png" ContentType="image/png"/>
  <Override PartName="/ppt/media/image24.png" ContentType="image/png"/>
  <Override PartName="/ppt/media/image31.gif" ContentType="image/gif"/>
  <Override PartName="/ppt/media/image18.wmf" ContentType="image/x-wmf"/>
  <Override PartName="/ppt/media/image20.png" ContentType="image/png"/>
  <Override PartName="/ppt/media/image19.wmf" ContentType="image/x-wmf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D5BD-12AA-499D-990F-A47E3690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85CB-2709-4B15-8F08-E6BA55D1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DC0D-A2EA-4F4F-8E70-DC78004E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A981-AEF6-44BD-91C5-CBD4DAA7D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AAA3-9463-4526-8EB1-5D0588731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FB47-8A6F-4530-B180-B3DCDB89F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3E36-C489-4AF4-8AF9-66F97F74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9132-2A96-4B8E-8C54-3D64983A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4B3F-C975-46E0-B63F-FFB0CFC09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7C64-34EC-41F6-9A30-A16CB759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29A8-13D2-4DDD-B003-04DCC17F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8B68-A5D1-44A8-93E0-08212EBD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25F3B-9619-49EB-9861-5416F339A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2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0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0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¿Lo sabí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lo sabí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a versión original de esta presentación fue creada en un colegio secundario de Colorado (EEUU) para su personal de 150 docentes en agosto de 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con el objeto de generar un debate acerca de las necesidades de los estudiantes para ser exitosos </a:t>
            </a:r>
            <a:br>
              <a:rPr sz="4400"/>
            </a:b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n el Siglo XX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ara junio de 2007 ya había comenzado 5 millones de discusiones alrededor del mun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Ahora que lo sabes queremos que te unas a esta disc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39640" y="4581360"/>
            <a:ext cx="821844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3300"/>
                </a:solidFill>
                <a:latin typeface="Arial"/>
              </a:rPr>
              <a:t>shifthappens.wikispaces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8218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68360" y="134136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esarrollado por </a:t>
            </a:r>
            <a:r>
              <a:rPr b="1" lang="es-AR" sz="3600" spc="-1" strike="noStrike">
                <a:solidFill>
                  <a:srgbClr val="990033"/>
                </a:solidFill>
                <a:latin typeface="Arial"/>
              </a:rPr>
              <a:t>Karl Fisch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thefischbowl.blogspot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84360" y="256536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con la asistencia de </a:t>
            </a:r>
            <a:r>
              <a:rPr b="1" lang="es-AR" sz="3600" spc="-1" strike="noStrike">
                <a:solidFill>
                  <a:srgbClr val="990033"/>
                </a:solidFill>
                <a:latin typeface="Arial"/>
              </a:rPr>
              <a:t>Scott McLeod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angerousirrelevant.o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11280" y="378936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iseñado por </a:t>
            </a:r>
            <a:r>
              <a:rPr b="1" lang="es-AR" sz="3600" spc="-1" strike="noStrike">
                <a:solidFill>
                  <a:srgbClr val="990033"/>
                </a:solidFill>
                <a:latin typeface="Arial"/>
              </a:rPr>
              <a:t>XPLANE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xplane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3492360" y="5013360"/>
            <a:ext cx="2301840" cy="86976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395280" y="5734080"/>
            <a:ext cx="8218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Adaptado al español por M.M.Caball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3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Se estima 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1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e cada </a:t>
            </a: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4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trabajadores ha estado con su empleador 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348000" y="2708280"/>
            <a:ext cx="5256360" cy="3528720"/>
            <a:chOff x="3348000" y="2708280"/>
            <a:chExt cx="5256360" cy="3528720"/>
          </a:xfrm>
        </p:grpSpPr>
        <p:sp>
          <p:nvSpPr>
            <p:cNvPr id="174" name=""/>
            <p:cNvSpPr/>
            <p:nvPr/>
          </p:nvSpPr>
          <p:spPr>
            <a:xfrm>
              <a:off x="5506920" y="2708280"/>
              <a:ext cx="2233800" cy="352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48000" y="3759120"/>
              <a:ext cx="223380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451640" y="3759120"/>
              <a:ext cx="115272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5724360" y="2997360"/>
            <a:ext cx="2876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65964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6436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370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06872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7672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80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15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20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3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67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57056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7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80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12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1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020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3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67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056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7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80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2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1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20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23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028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23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28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23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028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Se estima 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de cada </a:t>
            </a: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4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trabajadores ha estado con su empleador 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348000" y="2708280"/>
            <a:ext cx="5256360" cy="3528720"/>
            <a:chOff x="3348000" y="2708280"/>
            <a:chExt cx="5256360" cy="3528720"/>
          </a:xfrm>
        </p:grpSpPr>
        <p:sp>
          <p:nvSpPr>
            <p:cNvPr id="214" name=""/>
            <p:cNvSpPr/>
            <p:nvPr/>
          </p:nvSpPr>
          <p:spPr>
            <a:xfrm>
              <a:off x="5506920" y="2708280"/>
              <a:ext cx="2233800" cy="352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348000" y="3759120"/>
              <a:ext cx="223380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51640" y="3759120"/>
              <a:ext cx="115272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5724360" y="2997360"/>
            <a:ext cx="2876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5636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5964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370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06872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80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1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15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3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067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57056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80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12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1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067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056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7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2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51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020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23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28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23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028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00000" y="2852640"/>
            <a:ext cx="3552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menos de un añ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Se estima 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1 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e cada </a:t>
            </a:r>
            <a:r>
              <a:rPr b="1" lang="es-AR" sz="3200" spc="-1" strike="noStrike">
                <a:solidFill>
                  <a:srgbClr val="99cc00"/>
                </a:solidFill>
                <a:latin typeface="Arial"/>
              </a:rPr>
              <a:t>2</a:t>
            </a: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 trabajadores ha estado con su empleador a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348000" y="2708280"/>
            <a:ext cx="5256360" cy="3528720"/>
            <a:chOff x="3348000" y="2708280"/>
            <a:chExt cx="5256360" cy="3528720"/>
          </a:xfrm>
        </p:grpSpPr>
        <p:sp>
          <p:nvSpPr>
            <p:cNvPr id="247" name=""/>
            <p:cNvSpPr/>
            <p:nvPr/>
          </p:nvSpPr>
          <p:spPr>
            <a:xfrm>
              <a:off x="5506920" y="2708280"/>
              <a:ext cx="2233800" cy="3528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48000" y="3759120"/>
              <a:ext cx="223380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451640" y="3759120"/>
              <a:ext cx="1152720" cy="2477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5724360" y="2997360"/>
            <a:ext cx="28764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659640" y="2997360"/>
            <a:ext cx="287280" cy="57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6370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580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012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515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3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57056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8000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15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7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7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12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515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52328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028000" y="393372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23280" y="472428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2328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028000" y="5516640"/>
            <a:ext cx="28728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900000" y="2852640"/>
            <a:ext cx="35528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"/>
              </a:rPr>
              <a:t>menos de 5 añ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Nuestros alumnos probablemente tendrá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5580000" y="2562120"/>
            <a:ext cx="2089080" cy="17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 flipH="1" rot="21124200">
            <a:off x="5435280" y="2420640"/>
            <a:ext cx="2562120" cy="28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508720" y="2133720"/>
            <a:ext cx="2768400" cy="17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5435640" y="1916280"/>
            <a:ext cx="2469960" cy="193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180648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2916360" y="2419200"/>
            <a:ext cx="3313080" cy="3314520"/>
            <a:chOff x="2916360" y="2419200"/>
            <a:chExt cx="3313080" cy="3314520"/>
          </a:xfrm>
        </p:grpSpPr>
        <p:grpSp>
          <p:nvGrpSpPr>
            <p:cNvPr id="45" name=""/>
            <p:cNvGrpSpPr/>
            <p:nvPr/>
          </p:nvGrpSpPr>
          <p:grpSpPr>
            <a:xfrm>
              <a:off x="2916360" y="2419200"/>
              <a:ext cx="3313080" cy="3314520"/>
              <a:chOff x="2916360" y="2419200"/>
              <a:chExt cx="3313080" cy="3314520"/>
            </a:xfrm>
          </p:grpSpPr>
          <p:sp>
            <p:nvSpPr>
              <p:cNvPr id="46" name=""/>
              <p:cNvSpPr/>
              <p:nvPr/>
            </p:nvSpPr>
            <p:spPr>
              <a:xfrm>
                <a:off x="2916360" y="2420640"/>
                <a:ext cx="3313080" cy="331308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V="1">
                <a:off x="4572000" y="2419200"/>
                <a:ext cx="0" cy="1728720"/>
              </a:xfrm>
              <a:prstGeom prst="line">
                <a:avLst/>
              </a:prstGeom>
              <a:ln w="7632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" name=""/>
            <p:cNvSpPr/>
            <p:nvPr/>
          </p:nvSpPr>
          <p:spPr>
            <a:xfrm flipV="1">
              <a:off x="4544640" y="3399120"/>
              <a:ext cx="1234080" cy="742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n los próximos 8 segundo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611280" y="191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de 10 a 14 emple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5940360" y="2781360"/>
            <a:ext cx="1827360" cy="9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867280" y="2844720"/>
            <a:ext cx="1905120" cy="401328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250920" y="44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antes de que cumplan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38 añ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4572000" y="692280"/>
            <a:ext cx="2843280" cy="300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917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Muchos de los cursos de la Enseñanza Superior no existían hace 10 añ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256500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Artes combin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Agricultura orgá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E- busin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Arial"/>
              </a:rPr>
              <a:t>Nanotecnologí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8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¿Qué se estudiará dentro de 10 añ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950760" y="917640"/>
            <a:ext cx="743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os jóvenes de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años de hoy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a han mi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6300720" y="2759040"/>
            <a:ext cx="1978200" cy="409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06400" y="185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20.000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horas de T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50760" y="917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os jóvenes de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años de hoy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a han mi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300720" y="2759040"/>
            <a:ext cx="1978200" cy="40989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1116000" y="3429000"/>
            <a:ext cx="311472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06400" y="1485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10.000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horas de video jue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950760" y="54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juga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3114720" cy="25146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4643280" y="3300480"/>
            <a:ext cx="4345200" cy="35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950760" y="917640"/>
            <a:ext cx="743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os jóvenes de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1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años de hoy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n habl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06400" y="185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20.000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horas por teléfo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5580000" y="3602160"/>
            <a:ext cx="2524320" cy="3255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4573440" y="3284640"/>
            <a:ext cx="1727280" cy="936360"/>
          </a:xfrm>
          <a:prstGeom prst="wedgeEllipseCallout">
            <a:avLst>
              <a:gd name="adj1" fmla="val 62958"/>
              <a:gd name="adj2" fmla="val 6966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Hola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5940360" y="5229360"/>
            <a:ext cx="216000" cy="360000"/>
            <a:chOff x="5940360" y="5229360"/>
            <a:chExt cx="216000" cy="360000"/>
          </a:xfrm>
        </p:grpSpPr>
        <p:sp>
          <p:nvSpPr>
            <p:cNvPr id="314" name=""/>
            <p:cNvSpPr/>
            <p:nvPr/>
          </p:nvSpPr>
          <p:spPr>
            <a:xfrm>
              <a:off x="5940360" y="5229360"/>
              <a:ext cx="0" cy="2570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6012720" y="5332320"/>
              <a:ext cx="107640" cy="20592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5976000" y="5229360"/>
              <a:ext cx="72000" cy="2570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6048360" y="5486400"/>
              <a:ext cx="108000" cy="1029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250" autoRev="1" fill="hold"/>
                                        <p:tgtEl>
                                          <p:spTgt spid="3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950760" y="404640"/>
            <a:ext cx="7437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han enviado y recibi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06400" y="185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250.000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mails o mensajes de tex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5580000" y="3602160"/>
            <a:ext cx="2524320" cy="32558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4859280" y="4005360"/>
            <a:ext cx="1584360" cy="115236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Adios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5940360" y="5229360"/>
            <a:ext cx="216000" cy="360000"/>
            <a:chOff x="5940360" y="5229360"/>
            <a:chExt cx="216000" cy="360000"/>
          </a:xfrm>
        </p:grpSpPr>
        <p:sp>
          <p:nvSpPr>
            <p:cNvPr id="323" name=""/>
            <p:cNvSpPr/>
            <p:nvPr/>
          </p:nvSpPr>
          <p:spPr>
            <a:xfrm>
              <a:off x="5940360" y="5229360"/>
              <a:ext cx="0" cy="2570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012720" y="5332320"/>
              <a:ext cx="107640" cy="20592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976000" y="5229360"/>
              <a:ext cx="72000" cy="25704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6048360" y="5486400"/>
              <a:ext cx="108000" cy="102960"/>
            </a:xfrm>
            <a:prstGeom prst="line">
              <a:avLst/>
            </a:prstGeom>
            <a:ln w="381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3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4" dur="250" autoRev="1" fill="hold"/>
                                        <p:tgtEl>
                                          <p:spTgt spid="3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Muchos han creado contenido en la web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8360" y="530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cuantos de nosotros lo hemos hech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564000" y="2205000"/>
            <a:ext cx="2232000" cy="22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/>
          <a:stretch/>
        </p:blipFill>
        <p:spPr>
          <a:xfrm>
            <a:off x="3060720" y="2205000"/>
            <a:ext cx="2735280" cy="231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34 nuevos bebés habrán nac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826920" y="1557360"/>
            <a:ext cx="2025720" cy="1512360"/>
            <a:chOff x="826920" y="1557360"/>
            <a:chExt cx="2025720" cy="1512360"/>
          </a:xfrm>
        </p:grpSpPr>
        <p:grpSp>
          <p:nvGrpSpPr>
            <p:cNvPr id="52" name=""/>
            <p:cNvGrpSpPr/>
            <p:nvPr/>
          </p:nvGrpSpPr>
          <p:grpSpPr>
            <a:xfrm>
              <a:off x="826920" y="1557360"/>
              <a:ext cx="584280" cy="720360"/>
              <a:chOff x="826920" y="1557360"/>
              <a:chExt cx="584280" cy="720360"/>
            </a:xfrm>
          </p:grpSpPr>
          <p:sp>
            <p:nvSpPr>
              <p:cNvPr id="53" name=""/>
              <p:cNvSpPr/>
              <p:nvPr/>
            </p:nvSpPr>
            <p:spPr>
              <a:xfrm>
                <a:off x="826920" y="1694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067040" y="1557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1547640" y="1557360"/>
              <a:ext cx="584280" cy="720360"/>
              <a:chOff x="1547640" y="1557360"/>
              <a:chExt cx="584280" cy="720360"/>
            </a:xfrm>
          </p:grpSpPr>
          <p:sp>
            <p:nvSpPr>
              <p:cNvPr id="56" name=""/>
              <p:cNvSpPr/>
              <p:nvPr/>
            </p:nvSpPr>
            <p:spPr>
              <a:xfrm>
                <a:off x="1547640" y="1694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87760" y="1557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2268360" y="1557360"/>
              <a:ext cx="584280" cy="720360"/>
              <a:chOff x="2268360" y="1557360"/>
              <a:chExt cx="584280" cy="720360"/>
            </a:xfrm>
          </p:grpSpPr>
          <p:sp>
            <p:nvSpPr>
              <p:cNvPr id="59" name=""/>
              <p:cNvSpPr/>
              <p:nvPr/>
            </p:nvSpPr>
            <p:spPr>
              <a:xfrm>
                <a:off x="2268360" y="1694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08480" y="1557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826920" y="2349360"/>
              <a:ext cx="584280" cy="720360"/>
              <a:chOff x="826920" y="2349360"/>
              <a:chExt cx="584280" cy="720360"/>
            </a:xfrm>
          </p:grpSpPr>
          <p:sp>
            <p:nvSpPr>
              <p:cNvPr id="62" name=""/>
              <p:cNvSpPr/>
              <p:nvPr/>
            </p:nvSpPr>
            <p:spPr>
              <a:xfrm>
                <a:off x="826920" y="2486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067040" y="2349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1547640" y="2349360"/>
              <a:ext cx="584280" cy="720360"/>
              <a:chOff x="1547640" y="2349360"/>
              <a:chExt cx="584280" cy="720360"/>
            </a:xfrm>
          </p:grpSpPr>
          <p:sp>
            <p:nvSpPr>
              <p:cNvPr id="65" name=""/>
              <p:cNvSpPr/>
              <p:nvPr/>
            </p:nvSpPr>
            <p:spPr>
              <a:xfrm>
                <a:off x="1547640" y="2486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1787760" y="2349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2268360" y="2349360"/>
              <a:ext cx="584280" cy="720360"/>
              <a:chOff x="2268360" y="2349360"/>
              <a:chExt cx="584280" cy="720360"/>
            </a:xfrm>
          </p:grpSpPr>
          <p:sp>
            <p:nvSpPr>
              <p:cNvPr id="68" name=""/>
              <p:cNvSpPr/>
              <p:nvPr/>
            </p:nvSpPr>
            <p:spPr>
              <a:xfrm>
                <a:off x="2268360" y="2486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508480" y="2349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" name=""/>
          <p:cNvGrpSpPr/>
          <p:nvPr/>
        </p:nvGrpSpPr>
        <p:grpSpPr>
          <a:xfrm>
            <a:off x="3276720" y="2060640"/>
            <a:ext cx="2025000" cy="1512360"/>
            <a:chOff x="3276720" y="2060640"/>
            <a:chExt cx="2025000" cy="1512360"/>
          </a:xfrm>
        </p:grpSpPr>
        <p:grpSp>
          <p:nvGrpSpPr>
            <p:cNvPr id="71" name=""/>
            <p:cNvGrpSpPr/>
            <p:nvPr/>
          </p:nvGrpSpPr>
          <p:grpSpPr>
            <a:xfrm>
              <a:off x="3276720" y="2060640"/>
              <a:ext cx="583920" cy="720360"/>
              <a:chOff x="3276720" y="2060640"/>
              <a:chExt cx="583920" cy="720360"/>
            </a:xfrm>
          </p:grpSpPr>
          <p:sp>
            <p:nvSpPr>
              <p:cNvPr id="72" name=""/>
              <p:cNvSpPr/>
              <p:nvPr/>
            </p:nvSpPr>
            <p:spPr>
              <a:xfrm>
                <a:off x="3276720" y="2197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516840" y="2060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3997080" y="2060640"/>
              <a:ext cx="583920" cy="720360"/>
              <a:chOff x="3997080" y="2060640"/>
              <a:chExt cx="583920" cy="720360"/>
            </a:xfrm>
          </p:grpSpPr>
          <p:sp>
            <p:nvSpPr>
              <p:cNvPr id="75" name=""/>
              <p:cNvSpPr/>
              <p:nvPr/>
            </p:nvSpPr>
            <p:spPr>
              <a:xfrm>
                <a:off x="3997080" y="2197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237200" y="2060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4717800" y="2060640"/>
              <a:ext cx="583920" cy="720360"/>
              <a:chOff x="4717800" y="2060640"/>
              <a:chExt cx="583920" cy="720360"/>
            </a:xfrm>
          </p:grpSpPr>
          <p:sp>
            <p:nvSpPr>
              <p:cNvPr id="78" name=""/>
              <p:cNvSpPr/>
              <p:nvPr/>
            </p:nvSpPr>
            <p:spPr>
              <a:xfrm>
                <a:off x="4717800" y="2197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957920" y="2060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3276720" y="2852640"/>
              <a:ext cx="583920" cy="720360"/>
              <a:chOff x="3276720" y="2852640"/>
              <a:chExt cx="583920" cy="720360"/>
            </a:xfrm>
          </p:grpSpPr>
          <p:sp>
            <p:nvSpPr>
              <p:cNvPr id="81" name=""/>
              <p:cNvSpPr/>
              <p:nvPr/>
            </p:nvSpPr>
            <p:spPr>
              <a:xfrm>
                <a:off x="3276720" y="2989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516840" y="2852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3997080" y="2852640"/>
              <a:ext cx="583920" cy="720360"/>
              <a:chOff x="3997080" y="2852640"/>
              <a:chExt cx="583920" cy="720360"/>
            </a:xfrm>
          </p:grpSpPr>
          <p:sp>
            <p:nvSpPr>
              <p:cNvPr id="84" name=""/>
              <p:cNvSpPr/>
              <p:nvPr/>
            </p:nvSpPr>
            <p:spPr>
              <a:xfrm>
                <a:off x="3997080" y="2989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237200" y="2852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4717800" y="2852640"/>
              <a:ext cx="583920" cy="720360"/>
              <a:chOff x="4717800" y="2852640"/>
              <a:chExt cx="583920" cy="720360"/>
            </a:xfrm>
          </p:grpSpPr>
          <p:sp>
            <p:nvSpPr>
              <p:cNvPr id="87" name=""/>
              <p:cNvSpPr/>
              <p:nvPr/>
            </p:nvSpPr>
            <p:spPr>
              <a:xfrm>
                <a:off x="4717800" y="2989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957920" y="2852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" name=""/>
          <p:cNvGrpSpPr/>
          <p:nvPr/>
        </p:nvGrpSpPr>
        <p:grpSpPr>
          <a:xfrm>
            <a:off x="5580000" y="1628640"/>
            <a:ext cx="2025720" cy="1512360"/>
            <a:chOff x="5580000" y="1628640"/>
            <a:chExt cx="2025720" cy="1512360"/>
          </a:xfrm>
        </p:grpSpPr>
        <p:grpSp>
          <p:nvGrpSpPr>
            <p:cNvPr id="90" name=""/>
            <p:cNvGrpSpPr/>
            <p:nvPr/>
          </p:nvGrpSpPr>
          <p:grpSpPr>
            <a:xfrm>
              <a:off x="5580000" y="1628640"/>
              <a:ext cx="584280" cy="720360"/>
              <a:chOff x="5580000" y="1628640"/>
              <a:chExt cx="584280" cy="720360"/>
            </a:xfrm>
          </p:grpSpPr>
          <p:sp>
            <p:nvSpPr>
              <p:cNvPr id="91" name=""/>
              <p:cNvSpPr/>
              <p:nvPr/>
            </p:nvSpPr>
            <p:spPr>
              <a:xfrm>
                <a:off x="5580000" y="1765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820120" y="1628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"/>
            <p:cNvGrpSpPr/>
            <p:nvPr/>
          </p:nvGrpSpPr>
          <p:grpSpPr>
            <a:xfrm>
              <a:off x="6300720" y="1628640"/>
              <a:ext cx="584280" cy="720360"/>
              <a:chOff x="6300720" y="1628640"/>
              <a:chExt cx="584280" cy="720360"/>
            </a:xfrm>
          </p:grpSpPr>
          <p:sp>
            <p:nvSpPr>
              <p:cNvPr id="94" name=""/>
              <p:cNvSpPr/>
              <p:nvPr/>
            </p:nvSpPr>
            <p:spPr>
              <a:xfrm>
                <a:off x="6300720" y="1765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540840" y="1628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"/>
            <p:cNvGrpSpPr/>
            <p:nvPr/>
          </p:nvGrpSpPr>
          <p:grpSpPr>
            <a:xfrm>
              <a:off x="7021440" y="1628640"/>
              <a:ext cx="584280" cy="720360"/>
              <a:chOff x="7021440" y="1628640"/>
              <a:chExt cx="584280" cy="720360"/>
            </a:xfrm>
          </p:grpSpPr>
          <p:sp>
            <p:nvSpPr>
              <p:cNvPr id="97" name=""/>
              <p:cNvSpPr/>
              <p:nvPr/>
            </p:nvSpPr>
            <p:spPr>
              <a:xfrm>
                <a:off x="7021440" y="1765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261560" y="1628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5580000" y="2420640"/>
              <a:ext cx="584280" cy="720360"/>
              <a:chOff x="5580000" y="2420640"/>
              <a:chExt cx="584280" cy="720360"/>
            </a:xfrm>
          </p:grpSpPr>
          <p:sp>
            <p:nvSpPr>
              <p:cNvPr id="100" name=""/>
              <p:cNvSpPr/>
              <p:nvPr/>
            </p:nvSpPr>
            <p:spPr>
              <a:xfrm>
                <a:off x="5580000" y="2557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20120" y="2420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6300720" y="2420640"/>
              <a:ext cx="584280" cy="720360"/>
              <a:chOff x="6300720" y="2420640"/>
              <a:chExt cx="584280" cy="720360"/>
            </a:xfrm>
          </p:grpSpPr>
          <p:sp>
            <p:nvSpPr>
              <p:cNvPr id="103" name=""/>
              <p:cNvSpPr/>
              <p:nvPr/>
            </p:nvSpPr>
            <p:spPr>
              <a:xfrm>
                <a:off x="6300720" y="2557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540840" y="2420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7021440" y="2420640"/>
              <a:ext cx="584280" cy="720360"/>
              <a:chOff x="7021440" y="2420640"/>
              <a:chExt cx="584280" cy="720360"/>
            </a:xfrm>
          </p:grpSpPr>
          <p:sp>
            <p:nvSpPr>
              <p:cNvPr id="106" name=""/>
              <p:cNvSpPr/>
              <p:nvPr/>
            </p:nvSpPr>
            <p:spPr>
              <a:xfrm>
                <a:off x="7021440" y="255744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261560" y="242064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5580000" y="3573360"/>
            <a:ext cx="2025720" cy="1512360"/>
            <a:chOff x="5580000" y="3573360"/>
            <a:chExt cx="2025720" cy="1512360"/>
          </a:xfrm>
        </p:grpSpPr>
        <p:grpSp>
          <p:nvGrpSpPr>
            <p:cNvPr id="109" name=""/>
            <p:cNvGrpSpPr/>
            <p:nvPr/>
          </p:nvGrpSpPr>
          <p:grpSpPr>
            <a:xfrm>
              <a:off x="5580000" y="3573360"/>
              <a:ext cx="584280" cy="720360"/>
              <a:chOff x="5580000" y="3573360"/>
              <a:chExt cx="584280" cy="720360"/>
            </a:xfrm>
          </p:grpSpPr>
          <p:sp>
            <p:nvSpPr>
              <p:cNvPr id="110" name=""/>
              <p:cNvSpPr/>
              <p:nvPr/>
            </p:nvSpPr>
            <p:spPr>
              <a:xfrm>
                <a:off x="558000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82012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6300720" y="3573360"/>
              <a:ext cx="584280" cy="720360"/>
              <a:chOff x="6300720" y="3573360"/>
              <a:chExt cx="584280" cy="720360"/>
            </a:xfrm>
          </p:grpSpPr>
          <p:sp>
            <p:nvSpPr>
              <p:cNvPr id="113" name=""/>
              <p:cNvSpPr/>
              <p:nvPr/>
            </p:nvSpPr>
            <p:spPr>
              <a:xfrm>
                <a:off x="630072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54084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021440" y="3573360"/>
              <a:ext cx="584280" cy="720360"/>
              <a:chOff x="7021440" y="3573360"/>
              <a:chExt cx="584280" cy="720360"/>
            </a:xfrm>
          </p:grpSpPr>
          <p:sp>
            <p:nvSpPr>
              <p:cNvPr id="116" name=""/>
              <p:cNvSpPr/>
              <p:nvPr/>
            </p:nvSpPr>
            <p:spPr>
              <a:xfrm>
                <a:off x="702144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26156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5580000" y="4365360"/>
              <a:ext cx="584280" cy="720360"/>
              <a:chOff x="5580000" y="4365360"/>
              <a:chExt cx="584280" cy="720360"/>
            </a:xfrm>
          </p:grpSpPr>
          <p:sp>
            <p:nvSpPr>
              <p:cNvPr id="119" name=""/>
              <p:cNvSpPr/>
              <p:nvPr/>
            </p:nvSpPr>
            <p:spPr>
              <a:xfrm>
                <a:off x="558000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2012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6300720" y="4365360"/>
              <a:ext cx="584280" cy="720360"/>
              <a:chOff x="6300720" y="4365360"/>
              <a:chExt cx="584280" cy="720360"/>
            </a:xfrm>
          </p:grpSpPr>
          <p:sp>
            <p:nvSpPr>
              <p:cNvPr id="122" name=""/>
              <p:cNvSpPr/>
              <p:nvPr/>
            </p:nvSpPr>
            <p:spPr>
              <a:xfrm>
                <a:off x="630072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54084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7021440" y="4365360"/>
              <a:ext cx="584280" cy="720360"/>
              <a:chOff x="7021440" y="4365360"/>
              <a:chExt cx="584280" cy="720360"/>
            </a:xfrm>
          </p:grpSpPr>
          <p:sp>
            <p:nvSpPr>
              <p:cNvPr id="125" name=""/>
              <p:cNvSpPr/>
              <p:nvPr/>
            </p:nvSpPr>
            <p:spPr>
              <a:xfrm>
                <a:off x="702144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26156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971640" y="3573360"/>
            <a:ext cx="2025720" cy="1512360"/>
            <a:chOff x="971640" y="3573360"/>
            <a:chExt cx="2025720" cy="1512360"/>
          </a:xfrm>
        </p:grpSpPr>
        <p:grpSp>
          <p:nvGrpSpPr>
            <p:cNvPr id="128" name=""/>
            <p:cNvGrpSpPr/>
            <p:nvPr/>
          </p:nvGrpSpPr>
          <p:grpSpPr>
            <a:xfrm>
              <a:off x="971640" y="3573360"/>
              <a:ext cx="584280" cy="720360"/>
              <a:chOff x="971640" y="3573360"/>
              <a:chExt cx="584280" cy="720360"/>
            </a:xfrm>
          </p:grpSpPr>
          <p:sp>
            <p:nvSpPr>
              <p:cNvPr id="129" name=""/>
              <p:cNvSpPr/>
              <p:nvPr/>
            </p:nvSpPr>
            <p:spPr>
              <a:xfrm>
                <a:off x="97164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21176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1692360" y="3573360"/>
              <a:ext cx="584280" cy="720360"/>
              <a:chOff x="1692360" y="3573360"/>
              <a:chExt cx="584280" cy="720360"/>
            </a:xfrm>
          </p:grpSpPr>
          <p:sp>
            <p:nvSpPr>
              <p:cNvPr id="132" name=""/>
              <p:cNvSpPr/>
              <p:nvPr/>
            </p:nvSpPr>
            <p:spPr>
              <a:xfrm>
                <a:off x="169236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93248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2413080" y="3573360"/>
              <a:ext cx="584280" cy="720360"/>
              <a:chOff x="2413080" y="3573360"/>
              <a:chExt cx="584280" cy="720360"/>
            </a:xfrm>
          </p:grpSpPr>
          <p:sp>
            <p:nvSpPr>
              <p:cNvPr id="135" name=""/>
              <p:cNvSpPr/>
              <p:nvPr/>
            </p:nvSpPr>
            <p:spPr>
              <a:xfrm>
                <a:off x="2413080" y="3710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653200" y="3573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971640" y="4365360"/>
              <a:ext cx="584280" cy="720360"/>
              <a:chOff x="971640" y="4365360"/>
              <a:chExt cx="584280" cy="720360"/>
            </a:xfrm>
          </p:grpSpPr>
          <p:sp>
            <p:nvSpPr>
              <p:cNvPr id="138" name=""/>
              <p:cNvSpPr/>
              <p:nvPr/>
            </p:nvSpPr>
            <p:spPr>
              <a:xfrm>
                <a:off x="97164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21176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1692360" y="4365360"/>
              <a:ext cx="584280" cy="720360"/>
              <a:chOff x="1692360" y="4365360"/>
              <a:chExt cx="584280" cy="720360"/>
            </a:xfrm>
          </p:grpSpPr>
          <p:sp>
            <p:nvSpPr>
              <p:cNvPr id="141" name=""/>
              <p:cNvSpPr/>
              <p:nvPr/>
            </p:nvSpPr>
            <p:spPr>
              <a:xfrm>
                <a:off x="169236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93248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2413080" y="4365360"/>
              <a:ext cx="584280" cy="720360"/>
              <a:chOff x="2413080" y="4365360"/>
              <a:chExt cx="584280" cy="720360"/>
            </a:xfrm>
          </p:grpSpPr>
          <p:sp>
            <p:nvSpPr>
              <p:cNvPr id="144" name=""/>
              <p:cNvSpPr/>
              <p:nvPr/>
            </p:nvSpPr>
            <p:spPr>
              <a:xfrm>
                <a:off x="2413080" y="4502160"/>
                <a:ext cx="58428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653200" y="4365360"/>
                <a:ext cx="14400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3627360" y="3860640"/>
            <a:ext cx="1375920" cy="1584000"/>
            <a:chOff x="3627360" y="3860640"/>
            <a:chExt cx="1375920" cy="1584000"/>
          </a:xfrm>
        </p:grpSpPr>
        <p:grpSp>
          <p:nvGrpSpPr>
            <p:cNvPr id="147" name=""/>
            <p:cNvGrpSpPr/>
            <p:nvPr/>
          </p:nvGrpSpPr>
          <p:grpSpPr>
            <a:xfrm>
              <a:off x="3698640" y="3860640"/>
              <a:ext cx="583920" cy="720360"/>
              <a:chOff x="3698640" y="3860640"/>
              <a:chExt cx="583920" cy="720360"/>
            </a:xfrm>
          </p:grpSpPr>
          <p:sp>
            <p:nvSpPr>
              <p:cNvPr id="148" name=""/>
              <p:cNvSpPr/>
              <p:nvPr/>
            </p:nvSpPr>
            <p:spPr>
              <a:xfrm>
                <a:off x="3698640" y="3997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938760" y="3860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"/>
            <p:cNvGrpSpPr/>
            <p:nvPr/>
          </p:nvGrpSpPr>
          <p:grpSpPr>
            <a:xfrm>
              <a:off x="4419360" y="3860640"/>
              <a:ext cx="583920" cy="720360"/>
              <a:chOff x="4419360" y="3860640"/>
              <a:chExt cx="583920" cy="720360"/>
            </a:xfrm>
          </p:grpSpPr>
          <p:sp>
            <p:nvSpPr>
              <p:cNvPr id="151" name=""/>
              <p:cNvSpPr/>
              <p:nvPr/>
            </p:nvSpPr>
            <p:spPr>
              <a:xfrm>
                <a:off x="4419360" y="399744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59480" y="386064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3627360" y="4724280"/>
              <a:ext cx="583920" cy="720360"/>
              <a:chOff x="3627360" y="4724280"/>
              <a:chExt cx="583920" cy="720360"/>
            </a:xfrm>
          </p:grpSpPr>
          <p:sp>
            <p:nvSpPr>
              <p:cNvPr id="154" name=""/>
              <p:cNvSpPr/>
              <p:nvPr/>
            </p:nvSpPr>
            <p:spPr>
              <a:xfrm>
                <a:off x="3627360" y="486108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867480" y="472428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4419360" y="4724280"/>
              <a:ext cx="583920" cy="720360"/>
              <a:chOff x="4419360" y="4724280"/>
              <a:chExt cx="583920" cy="720360"/>
            </a:xfrm>
          </p:grpSpPr>
          <p:sp>
            <p:nvSpPr>
              <p:cNvPr id="157" name=""/>
              <p:cNvSpPr/>
              <p:nvPr/>
            </p:nvSpPr>
            <p:spPr>
              <a:xfrm>
                <a:off x="4419360" y="4861080"/>
                <a:ext cx="583920" cy="583560"/>
              </a:xfrm>
              <a:prstGeom prst="smileyFace">
                <a:avLst>
                  <a:gd name="adj" fmla="val 9282"/>
                </a:avLst>
              </a:prstGeom>
              <a:noFill/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659480" y="4724280"/>
                <a:ext cx="143640" cy="136800"/>
              </a:xfrm>
              <a:custGeom>
                <a:avLst/>
                <a:gdLst/>
                <a:ahLst/>
                <a:rect l="l" t="t" r="r" b="b"/>
                <a:pathLst>
                  <a:path w="190" h="181">
                    <a:moveTo>
                      <a:pt x="0" y="0"/>
                    </a:moveTo>
                    <a:cubicBezTo>
                      <a:pt x="87" y="7"/>
                      <a:pt x="174" y="15"/>
                      <a:pt x="182" y="45"/>
                    </a:cubicBezTo>
                    <a:cubicBezTo>
                      <a:pt x="190" y="75"/>
                      <a:pt x="69" y="158"/>
                      <a:pt x="46" y="181"/>
                    </a:cubicBezTo>
                  </a:path>
                </a:pathLst>
              </a:custGeom>
              <a:noFill/>
              <a:ln w="7632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Muchos niños a los 4 años ya usan la computad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64000" y="2205000"/>
            <a:ext cx="3230640" cy="3230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916360" y="2205000"/>
            <a:ext cx="3959280" cy="33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Años que tardó en alcanzar un mercado de 50 millones de usu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547640" y="2924280"/>
            <a:ext cx="597240" cy="8935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1476360" y="5373720"/>
            <a:ext cx="863640" cy="7826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1547640" y="4076640"/>
            <a:ext cx="901800" cy="9288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2771640" y="3500280"/>
            <a:ext cx="5040360" cy="0"/>
          </a:xfrm>
          <a:prstGeom prst="line">
            <a:avLst/>
          </a:prstGeom>
          <a:ln w="254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028000" y="314172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771640" y="4651200"/>
            <a:ext cx="1513080" cy="0"/>
          </a:xfrm>
          <a:prstGeom prst="line">
            <a:avLst/>
          </a:prstGeom>
          <a:ln w="254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0" y="4292640"/>
            <a:ext cx="514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843280" y="5805360"/>
            <a:ext cx="576360" cy="0"/>
          </a:xfrm>
          <a:prstGeom prst="line">
            <a:avLst/>
          </a:prstGeom>
          <a:ln w="254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3708360" y="5445000"/>
            <a:ext cx="287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Número de dispositivos conectados a Internet en 1984: </a:t>
            </a:r>
            <a:r>
              <a:rPr b="1" lang="es-AR" sz="4800" spc="-1" strike="noStrike">
                <a:solidFill>
                  <a:srgbClr val="ff0000"/>
                </a:solidFill>
                <a:latin typeface="Arial"/>
              </a:rPr>
              <a:t>1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Número de dispositivos conectados a Internet en 1992: </a:t>
            </a:r>
            <a:r>
              <a:rPr b="1" lang="es-AR" sz="4800" spc="-1" strike="noStrike">
                <a:solidFill>
                  <a:srgbClr val="ff0000"/>
                </a:solidFill>
                <a:latin typeface="Arial"/>
              </a:rPr>
              <a:t>1.000.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Número de dispositivos conectados a Internet en 2006: </a:t>
            </a:r>
            <a:r>
              <a:rPr b="1" lang="es-AR" sz="4800" spc="-1" strike="noStrike">
                <a:solidFill>
                  <a:srgbClr val="ff0000"/>
                </a:solidFill>
                <a:latin typeface="Arial"/>
              </a:rPr>
              <a:t>600.000.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lo sabí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Vivimos en tiempos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exponenci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El primer mensaje de texto comercial se envió en Diciembre d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2627280" y="2298600"/>
            <a:ext cx="4083120" cy="40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La cantidad de mensajes de texto que se reciben ho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627280" y="2298600"/>
            <a:ext cx="4083120" cy="408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2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66"/>
                                      </p:to>
                                    </p:animClr>
                                    <p:set>
                                      <p:cBhvr>
                                        <p:cTn id="333" dur="2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exceden la población del planeta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2627280" y="2298600"/>
            <a:ext cx="4083120" cy="408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339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356000" y="2492280"/>
            <a:ext cx="3578400" cy="3578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3952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Cómo será el mund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4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Internet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comenzó a usarse por el público en general al principio de 199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025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cada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arejas que se casó en EEUU en el 2005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0" y="3629160"/>
            <a:ext cx="2246400" cy="32288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2"/>
          <a:stretch/>
        </p:blipFill>
        <p:spPr>
          <a:xfrm>
            <a:off x="7020000" y="3645000"/>
            <a:ext cx="1914480" cy="321300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4284720" y="4802040"/>
            <a:ext cx="714240" cy="7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9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53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1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025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cada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parejas que se casó en EEUU en el 200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 conoció on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2124000" y="3629160"/>
            <a:ext cx="2246400" cy="32288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5003640" y="3645000"/>
            <a:ext cx="1914840" cy="3213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4284720" y="480204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4"/>
          <a:stretch/>
        </p:blipFill>
        <p:spPr>
          <a:xfrm>
            <a:off x="2279520" y="4797360"/>
            <a:ext cx="1212840" cy="138924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5"/>
          <a:stretch/>
        </p:blipFill>
        <p:spPr>
          <a:xfrm>
            <a:off x="5783400" y="4797360"/>
            <a:ext cx="1452600" cy="138924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6"/>
          <a:stretch/>
        </p:blipFill>
        <p:spPr>
          <a:xfrm>
            <a:off x="1908000" y="25653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7"/>
          <a:stretch/>
        </p:blipFill>
        <p:spPr>
          <a:xfrm>
            <a:off x="6012000" y="256536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8"/>
          <a:stretch/>
        </p:blipFill>
        <p:spPr>
          <a:xfrm>
            <a:off x="324000" y="18446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9"/>
          <a:stretch/>
        </p:blipFill>
        <p:spPr>
          <a:xfrm>
            <a:off x="8028000" y="1916280"/>
            <a:ext cx="714240" cy="71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50867E-006 L 0.21823 -0.00324 E">
                                      <p:cBhvr>
                                        <p:cTn id="367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5.78035E-007 L -0.22517 -0.00208 E">
                                      <p:cBhvr>
                                        <p:cTn id="371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.7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.700.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419720" y="37101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" dur="1" fill="hold"/>
                                        <p:tgtEl>
                                          <p:spTgt spid="3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.700.000.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 habido más de 2 mil 700 millones de búsquedas en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Goog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5280" y="35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2.700.000.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11280" y="5157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800" spc="-1" strike="noStrike">
                <a:solidFill>
                  <a:srgbClr val="000000"/>
                </a:solidFill>
                <a:latin typeface="Arial"/>
              </a:rPr>
              <a:t>este m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A quién se le hacían esas  preguntas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 A.G.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84360" y="4797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(Antes de Google)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528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ara ell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716360" y="2205000"/>
            <a:ext cx="2801160" cy="3455280"/>
            <a:chOff x="4716360" y="2205000"/>
            <a:chExt cx="2801160" cy="3455280"/>
          </a:xfrm>
        </p:grpSpPr>
        <p:sp>
          <p:nvSpPr>
            <p:cNvPr id="163" name=""/>
            <p:cNvSpPr/>
            <p:nvPr/>
          </p:nvSpPr>
          <p:spPr>
            <a:xfrm>
              <a:off x="4716360" y="2861640"/>
              <a:ext cx="2801160" cy="2798640"/>
            </a:xfrm>
            <a:prstGeom prst="smileyFace">
              <a:avLst>
                <a:gd name="adj" fmla="val 9282"/>
              </a:avLst>
            </a:prstGeom>
            <a:noFill/>
            <a:ln w="127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68000" y="2205000"/>
              <a:ext cx="690120" cy="656640"/>
            </a:xfrm>
            <a:custGeom>
              <a:avLst/>
              <a:gdLst/>
              <a:ahLst/>
              <a:rect l="l" t="t" r="r" b="b"/>
              <a:pathLst>
                <a:path w="190" h="181">
                  <a:moveTo>
                    <a:pt x="0" y="0"/>
                  </a:moveTo>
                  <a:cubicBezTo>
                    <a:pt x="87" y="7"/>
                    <a:pt x="174" y="15"/>
                    <a:pt x="182" y="45"/>
                  </a:cubicBezTo>
                  <a:cubicBezTo>
                    <a:pt x="190" y="75"/>
                    <a:pt x="69" y="158"/>
                    <a:pt x="46" y="181"/>
                  </a:cubicBezTo>
                </a:path>
              </a:pathLst>
            </a:custGeom>
            <a:noFill/>
            <a:ln w="127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Mas de 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3.000</a:t>
            </a: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libros fueron publicado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68360" y="1628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…</a:t>
            </a:r>
            <a:r>
              <a:rPr b="1" lang="es-AR" sz="4000" spc="-1" strike="noStrike">
                <a:solidFill>
                  <a:srgbClr val="ff0000"/>
                </a:solidFill>
                <a:latin typeface="Arial"/>
              </a:rPr>
              <a:t>ho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276720" y="3073320"/>
            <a:ext cx="2352600" cy="3524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a cantidad de información técnica se duplica cada 2 añ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3276720" y="3073320"/>
            <a:ext cx="2352600" cy="35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68360" y="3149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8360" y="17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8360" y="112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9640" y="24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8360" y="3870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9640" y="4518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39640" y="516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68360" y="1844640"/>
            <a:ext cx="35272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Para el 2010 se espera que se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uplique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8360" y="3149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68360" y="177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468360" y="1125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39640" y="24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68360" y="3870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39640" y="4518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39640" y="5165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8360" y="1844640"/>
            <a:ext cx="35272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Para el 2010 se espera que se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duplique</a:t>
            </a:r>
            <a:br>
              <a:rPr sz="3600"/>
            </a:br>
            <a:r>
              <a:rPr b="0" lang="es-AR" sz="3600" spc="-1" strike="noStrike">
                <a:solidFill>
                  <a:srgbClr val="000000"/>
                </a:solidFill>
                <a:latin typeface="Arial"/>
              </a:rPr>
              <a:t>cada 72 ho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24000" y="5569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314964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</a:t>
            </a:r>
            <a:r>
              <a:rPr b="0" lang="es-AR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24360" y="177336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564000" y="1125360"/>
            <a:ext cx="513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924360" y="2492280"/>
            <a:ext cx="4844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851280" y="3870360"/>
            <a:ext cx="484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995640" y="451800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95640" y="516564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-334800" y="549360"/>
            <a:ext cx="476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-396720" y="314172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-345960" y="178128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-706320" y="1125360"/>
            <a:ext cx="5133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-417600" y="2502000"/>
            <a:ext cx="4845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-490680" y="3860640"/>
            <a:ext cx="484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-345960" y="450864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-345960" y="5157720"/>
            <a:ext cx="4773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ff0000"/>
                </a:solidFill>
                <a:latin typeface="Arial"/>
              </a:rPr>
              <a:t>nueva inform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a tercera generación de fibra óptica que ha sido probada recientemente puede transmitir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10 billones de bi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por segu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o equivale a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.90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Ds o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15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millones de llamadas telefónicas simultán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763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254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6084720" y="3645000"/>
            <a:ext cx="2160720" cy="21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2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 esa cifra se triplica cada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seis me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101592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2541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5651640" y="3265560"/>
            <a:ext cx="2736720" cy="2684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amente faltaría perfeccionar algunos cone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4869000"/>
            <a:ext cx="9144000" cy="0"/>
          </a:xfrm>
          <a:prstGeom prst="line">
            <a:avLst/>
          </a:prstGeom>
          <a:ln w="11430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5435640" y="3125880"/>
            <a:ext cx="295272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2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 que significa que el costo de este desarrollo es prácticam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55640" y="3141720"/>
            <a:ext cx="7859880" cy="22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cer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Se predice que en 10 años la nación con más anglo parlantes ser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59280" y="3141720"/>
            <a:ext cx="32191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757500"/>
                    </a:gs>
                    <a:gs pos="5000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latin typeface="Arial Black"/>
              </a:rPr>
              <a:t>China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757500"/>
                  </a:gs>
                  <a:gs pos="50000">
                    <a:srgbClr val="ffff00"/>
                  </a:gs>
                  <a:gs pos="100000">
                    <a:srgbClr val="757500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91520" cy="164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si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2 mil millon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e niños viven en naciones en desarroll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68360" y="1989000"/>
            <a:ext cx="829152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Uno de tr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nunca complet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5º gr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39640" y="4365720"/>
            <a:ext cx="829152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el 2005  el proyecto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Una computadora por niño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OLPC) se lanzó para proveer de computadoras a esos niñ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s primeros envíos ya se han hech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3435120" cy="34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ños que nunca habían tenido un lib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4010040" cy="52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y tendrán el mundo en sus man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187280" y="2284560"/>
            <a:ext cx="3507120" cy="457344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2"/>
          <a:stretch/>
        </p:blipFill>
        <p:spPr>
          <a:xfrm>
            <a:off x="3348000" y="2205000"/>
            <a:ext cx="3168720" cy="3168720"/>
          </a:xfrm>
          <a:prstGeom prst="rect">
            <a:avLst/>
          </a:prstGeom>
          <a:ln w="0">
            <a:noFill/>
          </a:ln>
        </p:spPr>
      </p:pic>
      <p:grpSp>
        <p:nvGrpSpPr>
          <p:cNvPr id="449" name=""/>
          <p:cNvGrpSpPr/>
          <p:nvPr/>
        </p:nvGrpSpPr>
        <p:grpSpPr>
          <a:xfrm>
            <a:off x="4067280" y="1557360"/>
            <a:ext cx="1585080" cy="755280"/>
            <a:chOff x="4067280" y="1557360"/>
            <a:chExt cx="1585080" cy="755280"/>
          </a:xfrm>
        </p:grpSpPr>
        <p:sp>
          <p:nvSpPr>
            <p:cNvPr id="450" name=""/>
            <p:cNvSpPr/>
            <p:nvPr/>
          </p:nvSpPr>
          <p:spPr>
            <a:xfrm>
              <a:off x="4671000" y="1557360"/>
              <a:ext cx="76320" cy="60552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4973760" y="1633680"/>
              <a:ext cx="149760" cy="52740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293360" y="1633680"/>
              <a:ext cx="226080" cy="60408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123160" y="1708560"/>
              <a:ext cx="302760" cy="52920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67280" y="1935000"/>
              <a:ext cx="300960" cy="37764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5274720" y="2011680"/>
              <a:ext cx="377640" cy="30096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4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Y estarán comunic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1187280" y="2700360"/>
            <a:ext cx="3187800" cy="415764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3348000" y="2494080"/>
            <a:ext cx="2879640" cy="2879640"/>
          </a:xfrm>
          <a:prstGeom prst="rect">
            <a:avLst/>
          </a:prstGeom>
          <a:ln w="0">
            <a:noFill/>
          </a:ln>
        </p:spPr>
      </p:pic>
      <p:grpSp>
        <p:nvGrpSpPr>
          <p:cNvPr id="459" name=""/>
          <p:cNvGrpSpPr/>
          <p:nvPr/>
        </p:nvGrpSpPr>
        <p:grpSpPr>
          <a:xfrm>
            <a:off x="4456080" y="1843920"/>
            <a:ext cx="1438200" cy="807120"/>
            <a:chOff x="4456080" y="1843920"/>
            <a:chExt cx="1438200" cy="807120"/>
          </a:xfrm>
        </p:grpSpPr>
        <p:sp>
          <p:nvSpPr>
            <p:cNvPr id="460" name=""/>
            <p:cNvSpPr/>
            <p:nvPr/>
          </p:nvSpPr>
          <p:spPr>
            <a:xfrm flipH="1">
              <a:off x="5028120" y="1879200"/>
              <a:ext cx="69120" cy="51336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5236200" y="2058480"/>
              <a:ext cx="258480" cy="39132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32560" y="1843920"/>
              <a:ext cx="69120" cy="55080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5356440" y="2197800"/>
              <a:ext cx="399240" cy="35316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456080" y="2030760"/>
              <a:ext cx="189360" cy="38556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5478480" y="2503440"/>
              <a:ext cx="415800" cy="147600"/>
            </a:xfrm>
            <a:prstGeom prst="line">
              <a:avLst/>
            </a:prstGeom>
            <a:ln w="7632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940360" y="4005360"/>
            <a:ext cx="2962440" cy="20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cont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5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Se predice que 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cuando los niños nacidos en el 2007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3276720" y="3429000"/>
            <a:ext cx="236196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Se predice que 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cuando los niños nacidos en el 2007 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tengan 6 años</a:t>
            </a:r>
            <a:br>
              <a:rPr sz="4000"/>
            </a:b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3276720" y="3429000"/>
            <a:ext cx="236196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la capacidad de procesamiento de una supercomputado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6012000" y="2205000"/>
            <a:ext cx="201600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serán may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6012000" y="2460600"/>
            <a:ext cx="2016000" cy="14000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4000680" y="2565360"/>
            <a:ext cx="795240" cy="127944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324000" y="1916280"/>
            <a:ext cx="3062160" cy="39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a las del cerebro hum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6012000" y="2460600"/>
            <a:ext cx="2016000" cy="14000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4000680" y="2565360"/>
            <a:ext cx="795240" cy="127944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3"/>
          <a:stretch/>
        </p:blipFill>
        <p:spPr>
          <a:xfrm>
            <a:off x="324000" y="1916280"/>
            <a:ext cx="3062160" cy="39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¿Quién lo hubiera pensado hace </a:t>
            </a: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 añ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08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4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1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1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2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2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3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4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4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Y a pesar que predecir lo que ocurrirá dentro de 15 años es difíc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4360" y="2708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8000" spc="-1" strike="noStrike">
                <a:solidFill>
                  <a:srgbClr val="ff0000"/>
                </a:solidFill>
                <a:latin typeface="Arial"/>
              </a:rPr>
              <a:t>2049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¿Quién lo hubiera pensado hace </a:t>
            </a: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 añ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una computadora de U$S 1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2685960" cy="18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va a superar la capacidad de proces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2685960" cy="182880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4356000" y="2492280"/>
            <a:ext cx="839880" cy="135108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3"/>
          <a:stretch/>
        </p:blipFill>
        <p:spPr>
          <a:xfrm>
            <a:off x="5867280" y="2276640"/>
            <a:ext cx="2376720" cy="164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de la raza hu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2685960" cy="182880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2"/>
          <a:stretch/>
        </p:blipFill>
        <p:spPr>
          <a:xfrm>
            <a:off x="4356000" y="2492280"/>
            <a:ext cx="839880" cy="1351080"/>
          </a:xfrm>
          <a:prstGeom prst="rect">
            <a:avLst/>
          </a:prstGeom>
          <a:ln w="0">
            <a:noFill/>
          </a:ln>
        </p:spPr>
      </p:pic>
      <p:pic>
        <p:nvPicPr>
          <p:cNvPr id="510" name="" descr=""/>
          <p:cNvPicPr/>
          <p:nvPr/>
        </p:nvPicPr>
        <p:blipFill>
          <a:blip r:embed="rId3"/>
          <a:stretch/>
        </p:blipFill>
        <p:spPr>
          <a:xfrm>
            <a:off x="6012000" y="213372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AR" sz="4800" spc="-1" strike="noStrike">
                <a:solidFill>
                  <a:srgbClr val="000000"/>
                </a:solidFill>
                <a:latin typeface="Arial"/>
              </a:rPr>
              <a:t>qué significa todo est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41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Hoy estamos preparando alumnos para tareas y tecnologías que aún no existen…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373040" y="3559320"/>
            <a:ext cx="6368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ara resolver problem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que aún no sabem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que son</a:t>
            </a:r>
            <a:r>
              <a:rPr b="0" lang="es-A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probl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59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AR" sz="4400" spc="-1" strike="noStrike">
                <a:solidFill>
                  <a:srgbClr val="000000"/>
                </a:solidFill>
                <a:latin typeface="Arial"/>
              </a:rPr>
              <a:t>No podemos resolver problemas usando el mismo pensamiento que usamos cuando los creamos”</a:t>
            </a:r>
            <a:br>
              <a:rPr sz="4400"/>
            </a:br>
            <a:br>
              <a:rPr sz="4400"/>
            </a:br>
            <a:r>
              <a:rPr b="1" i="1" lang="es-AR" sz="4000" spc="-1" strike="noStrike">
                <a:solidFill>
                  <a:srgbClr val="0000ff"/>
                </a:solidFill>
                <a:latin typeface="Arial"/>
              </a:rPr>
              <a:t>Albert Einste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sabías qu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recuerd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9" dur="8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0" dur="8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8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compre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apli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¿Quién lo hubiera pensado hace </a:t>
            </a:r>
            <a:r>
              <a:rPr b="1" lang="es-AR" sz="44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 añ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analiz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evalú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cr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comunic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colabo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10920" y="1052280"/>
            <a:ext cx="80866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Hay estudiantes en China, Australia, Austria, Bangladesh, y los EEUU quie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3068640"/>
            <a:ext cx="808668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 u="sng">
                <a:solidFill>
                  <a:srgbClr val="ff3300"/>
                </a:solidFill>
                <a:uFillTx/>
                <a:latin typeface="Arial"/>
              </a:rPr>
              <a:t>colabo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1280" y="4724280"/>
            <a:ext cx="808668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"/>
              </a:rPr>
              <a:t>en proyectos </a:t>
            </a:r>
            <a:r>
              <a:rPr b="1" lang="es-AR" sz="4000" spc="-1" strike="noStrike">
                <a:solidFill>
                  <a:srgbClr val="ff3300"/>
                </a:solidFill>
                <a:latin typeface="Arial"/>
              </a:rPr>
              <a:t>todos los dí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2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4" dur="8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280" y="1844640"/>
            <a:ext cx="821844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Cómo estamos </a:t>
            </a:r>
            <a:r>
              <a:rPr b="1" lang="es-AR" sz="4400" spc="-1" strike="noStrike">
                <a:solidFill>
                  <a:srgbClr val="ff3300"/>
                </a:solidFill>
                <a:latin typeface="Arial"/>
              </a:rPr>
              <a:t>ayudando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 a nuestros alumnos a estar alfabetizados en el siglo XX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10920" y="126828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Estamos </a:t>
            </a:r>
            <a:r>
              <a:rPr b="1" lang="es-AR" sz="4400" spc="-1" strike="noStrike">
                <a:solidFill>
                  <a:srgbClr val="ff3300"/>
                </a:solidFill>
                <a:latin typeface="Arial"/>
              </a:rPr>
              <a:t>recibiendo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 los recursos y la capacitación para preparar a nuestros alumnos a ser exitosos en el siglo XX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10920" y="1267920"/>
            <a:ext cx="82184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Qué cambios necesita la legislación educativ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9640" y="3860640"/>
            <a:ext cx="821844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Cuál es tu </a:t>
            </a:r>
            <a:r>
              <a:rPr b="1" lang="es-AR" sz="4400" spc="-1" strike="noStrike">
                <a:solidFill>
                  <a:srgbClr val="ff3300"/>
                </a:solidFill>
                <a:latin typeface="Arial"/>
              </a:rPr>
              <a:t>visión</a:t>
            </a: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9528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s-AR" sz="4400" spc="-1" strike="noStrike">
                <a:solidFill>
                  <a:srgbClr val="000000"/>
                </a:solidFill>
                <a:latin typeface="Arial"/>
              </a:rPr>
              <a:t>lo sabí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22:40:45Z</dcterms:created>
  <dc:creator>María Marta</dc:creator>
  <dc:description/>
  <dc:language>en-US</dc:language>
  <cp:lastModifiedBy>María Marta</cp:lastModifiedBy>
  <dcterms:modified xsi:type="dcterms:W3CDTF">2008-09-02T18:38:01Z</dcterms:modified>
  <cp:revision>71</cp:revision>
  <dc:subject/>
  <dc:title>¿Sabía usted?</dc:title>
</cp:coreProperties>
</file>