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9.png" ContentType="image/png"/>
  <Override PartName="/ppt/media/image26.gif" ContentType="image/gif"/>
  <Override PartName="/ppt/media/image10.wmf" ContentType="image/x-wmf"/>
  <Override PartName="/ppt/media/image2.png" ContentType="image/png"/>
  <Override PartName="/ppt/media/image3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15.png" ContentType="image/png"/>
  <Override PartName="/ppt/media/image16.png" ContentType="image/png"/>
  <Override PartName="/ppt/media/image13.gif" ContentType="image/gif"/>
  <Override PartName="/ppt/media/image30.png" ContentType="image/png"/>
  <Override PartName="/ppt/media/image25.gif" ContentType="image/gif"/>
  <Override PartName="/ppt/media/image28.png" ContentType="image/png"/>
  <Override PartName="/ppt/media/image5.wmf" ContentType="image/x-wmf"/>
  <Override PartName="/ppt/media/image4.wmf" ContentType="image/x-wmf"/>
  <Override PartName="/ppt/media/image3.png" ContentType="image/png"/>
  <Override PartName="/ppt/media/image12.gif" ContentType="image/gif"/>
  <Override PartName="/ppt/media/image17.jpeg" ContentType="image/jpeg"/>
  <Override PartName="/ppt/media/image1.png" ContentType="image/png"/>
  <Override PartName="/ppt/media/image24.png" ContentType="image/png"/>
  <Override PartName="/ppt/media/image31.gif" ContentType="image/gi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97B-0CCD-460F-A666-278277E1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69A-2F28-4BD9-BD73-03B7A31B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44B-6B2E-42CF-B057-48131EF3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4DA-F491-4AC3-B63C-FC32281B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762-ABE4-4194-A80E-8E2E661D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F0E-5E4D-40CD-928B-832A4B2B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208-DCAB-4C79-A8FC-B8BA313D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195-E4F7-4178-B705-E3F47F3D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794-2EE8-42AA-B994-5E2DAB7C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55A-3983-458A-BF66-0B0D9B5B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D16-A30C-485D-B802-92D1F4D0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931-9DA7-4C4D-BD23-739FE0EA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F7E5-71E8-41BC-ABF2-89637B462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versión original de esta presentación fue creada en un colegio secundario de Colorado (EEUU) para su personal de 150 docentes en agosto de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 el objeto de generar un debate acerca de las necesidades de los estudiantes para ser exitosos </a:t>
            </a:r>
            <a:br>
              <a:rPr sz="4400"/>
            </a:b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el Siglo X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junio de 2007 ya había comenzado 5 millones de discusiones alrededor del m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hora que lo sabes queremos que te unas a esta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4581360"/>
            <a:ext cx="82184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shifthappens.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8360" y="1341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esarrollado por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Karl Fisch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thefischbowl.blogspo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4360" y="2565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on la asistencia de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Scott McLeod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angerousirrelevant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1280" y="3789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iseñado por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XPLAN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xplan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492360" y="5013360"/>
            <a:ext cx="2301840" cy="8697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95280" y="57340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daptado al español por M.M.Caball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174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64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8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7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2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056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2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28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214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8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2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056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00000" y="285264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menos de un añ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247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00000" y="285264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menos de 5 añ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uestros alumnos probablemente tendr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80000" y="2562120"/>
            <a:ext cx="2089080" cy="17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 flipH="1" rot="21124200">
            <a:off x="5435280" y="2420640"/>
            <a:ext cx="256212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76840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246996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80648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916360" y="2419200"/>
            <a:ext cx="3313080" cy="3314520"/>
            <a:chOff x="2916360" y="2419200"/>
            <a:chExt cx="3313080" cy="3314520"/>
          </a:xfrm>
        </p:grpSpPr>
        <p:grpSp>
          <p:nvGrpSpPr>
            <p:cNvPr id="45" name=""/>
            <p:cNvGrpSpPr/>
            <p:nvPr/>
          </p:nvGrpSpPr>
          <p:grpSpPr>
            <a:xfrm>
              <a:off x="2916360" y="2419200"/>
              <a:ext cx="3313080" cy="3314520"/>
              <a:chOff x="2916360" y="2419200"/>
              <a:chExt cx="3313080" cy="3314520"/>
            </a:xfrm>
          </p:grpSpPr>
          <p:sp>
            <p:nvSpPr>
              <p:cNvPr id="46" name=""/>
              <p:cNvSpPr/>
              <p:nvPr/>
            </p:nvSpPr>
            <p:spPr>
              <a:xfrm>
                <a:off x="2916360" y="2420640"/>
                <a:ext cx="3313080" cy="33130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4572000" y="2419200"/>
                <a:ext cx="0" cy="172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flipV="1">
              <a:off x="4544640" y="3399120"/>
              <a:ext cx="1234080" cy="74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los próximos 8 segund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182736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50920" y="44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ntes de que cumplan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38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2843280" cy="30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de los cursos de la Enseñanza Superior no existían hace 10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rtes combin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gricultura orgá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-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Nanotecn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Qué se estudiará dentro de 10 añ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50760" y="917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a han mi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300720" y="2759040"/>
            <a:ext cx="1978200" cy="40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6400" y="185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de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50760" y="9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a han mi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300720" y="2759040"/>
            <a:ext cx="1978200" cy="4098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3114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6400" y="14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1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de video ju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507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jug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3114720" cy="2514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43280" y="3300480"/>
            <a:ext cx="434520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50760" y="917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n hab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06400" y="185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por teléf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580000" y="3602160"/>
            <a:ext cx="2524320" cy="3255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573440" y="3284640"/>
            <a:ext cx="1727280" cy="936360"/>
          </a:xfrm>
          <a:prstGeom prst="wedgeEllipseCallout">
            <a:avLst>
              <a:gd name="adj1" fmla="val 62958"/>
              <a:gd name="adj2" fmla="val 6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Hol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940360" y="5229360"/>
            <a:ext cx="216000" cy="360000"/>
            <a:chOff x="5940360" y="5229360"/>
            <a:chExt cx="216000" cy="360000"/>
          </a:xfrm>
        </p:grpSpPr>
        <p:sp>
          <p:nvSpPr>
            <p:cNvPr id="314" name=""/>
            <p:cNvSpPr/>
            <p:nvPr/>
          </p:nvSpPr>
          <p:spPr>
            <a:xfrm>
              <a:off x="5940360" y="5229360"/>
              <a:ext cx="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012720" y="5332320"/>
              <a:ext cx="107640" cy="2059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976000" y="5229360"/>
              <a:ext cx="7200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048360" y="5486400"/>
              <a:ext cx="108000" cy="1029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50760" y="404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han enviado y recib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6400" y="185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5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mails o mensajes de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580000" y="3602160"/>
            <a:ext cx="2524320" cy="3255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859280" y="4005360"/>
            <a:ext cx="1584360" cy="1152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dio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940360" y="5229360"/>
            <a:ext cx="216000" cy="360000"/>
            <a:chOff x="5940360" y="5229360"/>
            <a:chExt cx="216000" cy="360000"/>
          </a:xfrm>
        </p:grpSpPr>
        <p:sp>
          <p:nvSpPr>
            <p:cNvPr id="323" name=""/>
            <p:cNvSpPr/>
            <p:nvPr/>
          </p:nvSpPr>
          <p:spPr>
            <a:xfrm>
              <a:off x="5940360" y="5229360"/>
              <a:ext cx="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012720" y="5332320"/>
              <a:ext cx="107640" cy="2059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976000" y="5229360"/>
              <a:ext cx="7200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048360" y="5486400"/>
              <a:ext cx="108000" cy="1029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han creado contenido en la web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tos de nosotros lo hemos hec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64000" y="220500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060720" y="2205000"/>
            <a:ext cx="273528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34 nuevos bebés habrán na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26920" y="1557360"/>
            <a:ext cx="2025720" cy="1512360"/>
            <a:chOff x="826920" y="1557360"/>
            <a:chExt cx="2025720" cy="1512360"/>
          </a:xfrm>
        </p:grpSpPr>
        <p:grpSp>
          <p:nvGrpSpPr>
            <p:cNvPr id="52" name=""/>
            <p:cNvGrpSpPr/>
            <p:nvPr/>
          </p:nvGrpSpPr>
          <p:grpSpPr>
            <a:xfrm>
              <a:off x="826920" y="1557360"/>
              <a:ext cx="584280" cy="720360"/>
              <a:chOff x="826920" y="1557360"/>
              <a:chExt cx="584280" cy="720360"/>
            </a:xfrm>
          </p:grpSpPr>
          <p:sp>
            <p:nvSpPr>
              <p:cNvPr id="53" name=""/>
              <p:cNvSpPr/>
              <p:nvPr/>
            </p:nvSpPr>
            <p:spPr>
              <a:xfrm>
                <a:off x="82692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704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547640" y="1557360"/>
              <a:ext cx="584280" cy="720360"/>
              <a:chOff x="1547640" y="1557360"/>
              <a:chExt cx="584280" cy="720360"/>
            </a:xfrm>
          </p:grpSpPr>
          <p:sp>
            <p:nvSpPr>
              <p:cNvPr id="56" name=""/>
              <p:cNvSpPr/>
              <p:nvPr/>
            </p:nvSpPr>
            <p:spPr>
              <a:xfrm>
                <a:off x="154764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8776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268360" y="1557360"/>
              <a:ext cx="584280" cy="720360"/>
              <a:chOff x="2268360" y="1557360"/>
              <a:chExt cx="584280" cy="720360"/>
            </a:xfrm>
          </p:grpSpPr>
          <p:sp>
            <p:nvSpPr>
              <p:cNvPr id="59" name=""/>
              <p:cNvSpPr/>
              <p:nvPr/>
            </p:nvSpPr>
            <p:spPr>
              <a:xfrm>
                <a:off x="226836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0848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6920" y="2349360"/>
              <a:ext cx="584280" cy="720360"/>
              <a:chOff x="826920" y="2349360"/>
              <a:chExt cx="584280" cy="720360"/>
            </a:xfrm>
          </p:grpSpPr>
          <p:sp>
            <p:nvSpPr>
              <p:cNvPr id="62" name=""/>
              <p:cNvSpPr/>
              <p:nvPr/>
            </p:nvSpPr>
            <p:spPr>
              <a:xfrm>
                <a:off x="82692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6704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547640" y="2349360"/>
              <a:ext cx="584280" cy="720360"/>
              <a:chOff x="1547640" y="2349360"/>
              <a:chExt cx="584280" cy="720360"/>
            </a:xfrm>
          </p:grpSpPr>
          <p:sp>
            <p:nvSpPr>
              <p:cNvPr id="65" name=""/>
              <p:cNvSpPr/>
              <p:nvPr/>
            </p:nvSpPr>
            <p:spPr>
              <a:xfrm>
                <a:off x="154764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8776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268360" y="2349360"/>
              <a:ext cx="584280" cy="720360"/>
              <a:chOff x="2268360" y="2349360"/>
              <a:chExt cx="584280" cy="720360"/>
            </a:xfrm>
          </p:grpSpPr>
          <p:sp>
            <p:nvSpPr>
              <p:cNvPr id="68" name=""/>
              <p:cNvSpPr/>
              <p:nvPr/>
            </p:nvSpPr>
            <p:spPr>
              <a:xfrm>
                <a:off x="226836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0848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3276720" y="2060640"/>
            <a:ext cx="2025000" cy="1512360"/>
            <a:chOff x="3276720" y="2060640"/>
            <a:chExt cx="2025000" cy="1512360"/>
          </a:xfrm>
        </p:grpSpPr>
        <p:grpSp>
          <p:nvGrpSpPr>
            <p:cNvPr id="71" name=""/>
            <p:cNvGrpSpPr/>
            <p:nvPr/>
          </p:nvGrpSpPr>
          <p:grpSpPr>
            <a:xfrm>
              <a:off x="3276720" y="2060640"/>
              <a:ext cx="583920" cy="720360"/>
              <a:chOff x="3276720" y="2060640"/>
              <a:chExt cx="583920" cy="720360"/>
            </a:xfrm>
          </p:grpSpPr>
          <p:sp>
            <p:nvSpPr>
              <p:cNvPr id="72" name=""/>
              <p:cNvSpPr/>
              <p:nvPr/>
            </p:nvSpPr>
            <p:spPr>
              <a:xfrm>
                <a:off x="327672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684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997080" y="2060640"/>
              <a:ext cx="583920" cy="720360"/>
              <a:chOff x="3997080" y="2060640"/>
              <a:chExt cx="583920" cy="720360"/>
            </a:xfrm>
          </p:grpSpPr>
          <p:sp>
            <p:nvSpPr>
              <p:cNvPr id="75" name=""/>
              <p:cNvSpPr/>
              <p:nvPr/>
            </p:nvSpPr>
            <p:spPr>
              <a:xfrm>
                <a:off x="399708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720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717800" y="2060640"/>
              <a:ext cx="583920" cy="720360"/>
              <a:chOff x="4717800" y="2060640"/>
              <a:chExt cx="583920" cy="720360"/>
            </a:xfrm>
          </p:grpSpPr>
          <p:sp>
            <p:nvSpPr>
              <p:cNvPr id="78" name=""/>
              <p:cNvSpPr/>
              <p:nvPr/>
            </p:nvSpPr>
            <p:spPr>
              <a:xfrm>
                <a:off x="471780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792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276720" y="2852640"/>
              <a:ext cx="583920" cy="720360"/>
              <a:chOff x="3276720" y="2852640"/>
              <a:chExt cx="583920" cy="720360"/>
            </a:xfrm>
          </p:grpSpPr>
          <p:sp>
            <p:nvSpPr>
              <p:cNvPr id="81" name=""/>
              <p:cNvSpPr/>
              <p:nvPr/>
            </p:nvSpPr>
            <p:spPr>
              <a:xfrm>
                <a:off x="327672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1684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997080" y="2852640"/>
              <a:ext cx="583920" cy="720360"/>
              <a:chOff x="3997080" y="2852640"/>
              <a:chExt cx="583920" cy="720360"/>
            </a:xfrm>
          </p:grpSpPr>
          <p:sp>
            <p:nvSpPr>
              <p:cNvPr id="84" name=""/>
              <p:cNvSpPr/>
              <p:nvPr/>
            </p:nvSpPr>
            <p:spPr>
              <a:xfrm>
                <a:off x="399708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3720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717800" y="2852640"/>
              <a:ext cx="583920" cy="720360"/>
              <a:chOff x="4717800" y="2852640"/>
              <a:chExt cx="583920" cy="720360"/>
            </a:xfrm>
          </p:grpSpPr>
          <p:sp>
            <p:nvSpPr>
              <p:cNvPr id="87" name=""/>
              <p:cNvSpPr/>
              <p:nvPr/>
            </p:nvSpPr>
            <p:spPr>
              <a:xfrm>
                <a:off x="471780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5792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5580000" y="1628640"/>
            <a:ext cx="2025720" cy="1512360"/>
            <a:chOff x="5580000" y="1628640"/>
            <a:chExt cx="2025720" cy="1512360"/>
          </a:xfrm>
        </p:grpSpPr>
        <p:grpSp>
          <p:nvGrpSpPr>
            <p:cNvPr id="90" name=""/>
            <p:cNvGrpSpPr/>
            <p:nvPr/>
          </p:nvGrpSpPr>
          <p:grpSpPr>
            <a:xfrm>
              <a:off x="5580000" y="1628640"/>
              <a:ext cx="584280" cy="720360"/>
              <a:chOff x="5580000" y="1628640"/>
              <a:chExt cx="584280" cy="720360"/>
            </a:xfrm>
          </p:grpSpPr>
          <p:sp>
            <p:nvSpPr>
              <p:cNvPr id="91" name=""/>
              <p:cNvSpPr/>
              <p:nvPr/>
            </p:nvSpPr>
            <p:spPr>
              <a:xfrm>
                <a:off x="558000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2012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300720" y="1628640"/>
              <a:ext cx="584280" cy="720360"/>
              <a:chOff x="6300720" y="1628640"/>
              <a:chExt cx="584280" cy="720360"/>
            </a:xfrm>
          </p:grpSpPr>
          <p:sp>
            <p:nvSpPr>
              <p:cNvPr id="94" name=""/>
              <p:cNvSpPr/>
              <p:nvPr/>
            </p:nvSpPr>
            <p:spPr>
              <a:xfrm>
                <a:off x="630072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4084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021440" y="1628640"/>
              <a:ext cx="584280" cy="720360"/>
              <a:chOff x="7021440" y="1628640"/>
              <a:chExt cx="584280" cy="720360"/>
            </a:xfrm>
          </p:grpSpPr>
          <p:sp>
            <p:nvSpPr>
              <p:cNvPr id="97" name=""/>
              <p:cNvSpPr/>
              <p:nvPr/>
            </p:nvSpPr>
            <p:spPr>
              <a:xfrm>
                <a:off x="702144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6156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580000" y="2420640"/>
              <a:ext cx="584280" cy="720360"/>
              <a:chOff x="5580000" y="2420640"/>
              <a:chExt cx="584280" cy="720360"/>
            </a:xfrm>
          </p:grpSpPr>
          <p:sp>
            <p:nvSpPr>
              <p:cNvPr id="100" name=""/>
              <p:cNvSpPr/>
              <p:nvPr/>
            </p:nvSpPr>
            <p:spPr>
              <a:xfrm>
                <a:off x="558000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2012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00720" y="2420640"/>
              <a:ext cx="584280" cy="720360"/>
              <a:chOff x="6300720" y="2420640"/>
              <a:chExt cx="584280" cy="720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30072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4084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21440" y="2420640"/>
              <a:ext cx="584280" cy="720360"/>
              <a:chOff x="7021440" y="2420640"/>
              <a:chExt cx="584280" cy="720360"/>
            </a:xfrm>
          </p:grpSpPr>
          <p:sp>
            <p:nvSpPr>
              <p:cNvPr id="106" name=""/>
              <p:cNvSpPr/>
              <p:nvPr/>
            </p:nvSpPr>
            <p:spPr>
              <a:xfrm>
                <a:off x="702144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6156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5580000" y="3573360"/>
            <a:ext cx="2025720" cy="1512360"/>
            <a:chOff x="5580000" y="3573360"/>
            <a:chExt cx="2025720" cy="1512360"/>
          </a:xfrm>
        </p:grpSpPr>
        <p:grpSp>
          <p:nvGrpSpPr>
            <p:cNvPr id="109" name=""/>
            <p:cNvGrpSpPr/>
            <p:nvPr/>
          </p:nvGrpSpPr>
          <p:grpSpPr>
            <a:xfrm>
              <a:off x="5580000" y="3573360"/>
              <a:ext cx="584280" cy="720360"/>
              <a:chOff x="5580000" y="3573360"/>
              <a:chExt cx="584280" cy="720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58000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2012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00720" y="3573360"/>
              <a:ext cx="584280" cy="720360"/>
              <a:chOff x="6300720" y="3573360"/>
              <a:chExt cx="584280" cy="720360"/>
            </a:xfrm>
          </p:grpSpPr>
          <p:sp>
            <p:nvSpPr>
              <p:cNvPr id="113" name=""/>
              <p:cNvSpPr/>
              <p:nvPr/>
            </p:nvSpPr>
            <p:spPr>
              <a:xfrm>
                <a:off x="630072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4084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021440" y="3573360"/>
              <a:ext cx="584280" cy="720360"/>
              <a:chOff x="7021440" y="3573360"/>
              <a:chExt cx="584280" cy="720360"/>
            </a:xfrm>
          </p:grpSpPr>
          <p:sp>
            <p:nvSpPr>
              <p:cNvPr id="116" name=""/>
              <p:cNvSpPr/>
              <p:nvPr/>
            </p:nvSpPr>
            <p:spPr>
              <a:xfrm>
                <a:off x="702144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6156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580000" y="4365360"/>
              <a:ext cx="584280" cy="720360"/>
              <a:chOff x="5580000" y="4365360"/>
              <a:chExt cx="584280" cy="720360"/>
            </a:xfrm>
          </p:grpSpPr>
          <p:sp>
            <p:nvSpPr>
              <p:cNvPr id="119" name=""/>
              <p:cNvSpPr/>
              <p:nvPr/>
            </p:nvSpPr>
            <p:spPr>
              <a:xfrm>
                <a:off x="558000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2012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300720" y="4365360"/>
              <a:ext cx="584280" cy="720360"/>
              <a:chOff x="6300720" y="4365360"/>
              <a:chExt cx="584280" cy="720360"/>
            </a:xfrm>
          </p:grpSpPr>
          <p:sp>
            <p:nvSpPr>
              <p:cNvPr id="122" name=""/>
              <p:cNvSpPr/>
              <p:nvPr/>
            </p:nvSpPr>
            <p:spPr>
              <a:xfrm>
                <a:off x="630072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4084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021440" y="4365360"/>
              <a:ext cx="584280" cy="720360"/>
              <a:chOff x="7021440" y="4365360"/>
              <a:chExt cx="584280" cy="720360"/>
            </a:xfrm>
          </p:grpSpPr>
          <p:sp>
            <p:nvSpPr>
              <p:cNvPr id="125" name=""/>
              <p:cNvSpPr/>
              <p:nvPr/>
            </p:nvSpPr>
            <p:spPr>
              <a:xfrm>
                <a:off x="702144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6156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971640" y="3573360"/>
            <a:ext cx="2025720" cy="1512360"/>
            <a:chOff x="971640" y="3573360"/>
            <a:chExt cx="2025720" cy="1512360"/>
          </a:xfrm>
        </p:grpSpPr>
        <p:grpSp>
          <p:nvGrpSpPr>
            <p:cNvPr id="128" name=""/>
            <p:cNvGrpSpPr/>
            <p:nvPr/>
          </p:nvGrpSpPr>
          <p:grpSpPr>
            <a:xfrm>
              <a:off x="971640" y="3573360"/>
              <a:ext cx="584280" cy="720360"/>
              <a:chOff x="971640" y="3573360"/>
              <a:chExt cx="584280" cy="720360"/>
            </a:xfrm>
          </p:grpSpPr>
          <p:sp>
            <p:nvSpPr>
              <p:cNvPr id="129" name=""/>
              <p:cNvSpPr/>
              <p:nvPr/>
            </p:nvSpPr>
            <p:spPr>
              <a:xfrm>
                <a:off x="97164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1176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692360" y="3573360"/>
              <a:ext cx="584280" cy="720360"/>
              <a:chOff x="1692360" y="3573360"/>
              <a:chExt cx="584280" cy="720360"/>
            </a:xfrm>
          </p:grpSpPr>
          <p:sp>
            <p:nvSpPr>
              <p:cNvPr id="132" name=""/>
              <p:cNvSpPr/>
              <p:nvPr/>
            </p:nvSpPr>
            <p:spPr>
              <a:xfrm>
                <a:off x="169236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3248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413080" y="3573360"/>
              <a:ext cx="584280" cy="720360"/>
              <a:chOff x="2413080" y="3573360"/>
              <a:chExt cx="584280" cy="720360"/>
            </a:xfrm>
          </p:grpSpPr>
          <p:sp>
            <p:nvSpPr>
              <p:cNvPr id="135" name=""/>
              <p:cNvSpPr/>
              <p:nvPr/>
            </p:nvSpPr>
            <p:spPr>
              <a:xfrm>
                <a:off x="241308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5320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971640" y="4365360"/>
              <a:ext cx="584280" cy="720360"/>
              <a:chOff x="971640" y="4365360"/>
              <a:chExt cx="584280" cy="720360"/>
            </a:xfrm>
          </p:grpSpPr>
          <p:sp>
            <p:nvSpPr>
              <p:cNvPr id="138" name=""/>
              <p:cNvSpPr/>
              <p:nvPr/>
            </p:nvSpPr>
            <p:spPr>
              <a:xfrm>
                <a:off x="97164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1176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692360" y="4365360"/>
              <a:ext cx="584280" cy="720360"/>
              <a:chOff x="1692360" y="4365360"/>
              <a:chExt cx="584280" cy="720360"/>
            </a:xfrm>
          </p:grpSpPr>
          <p:sp>
            <p:nvSpPr>
              <p:cNvPr id="141" name=""/>
              <p:cNvSpPr/>
              <p:nvPr/>
            </p:nvSpPr>
            <p:spPr>
              <a:xfrm>
                <a:off x="169236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248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413080" y="4365360"/>
              <a:ext cx="584280" cy="720360"/>
              <a:chOff x="2413080" y="4365360"/>
              <a:chExt cx="584280" cy="720360"/>
            </a:xfrm>
          </p:grpSpPr>
          <p:sp>
            <p:nvSpPr>
              <p:cNvPr id="144" name=""/>
              <p:cNvSpPr/>
              <p:nvPr/>
            </p:nvSpPr>
            <p:spPr>
              <a:xfrm>
                <a:off x="241308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5320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627360" y="3860640"/>
            <a:ext cx="1375920" cy="1584000"/>
            <a:chOff x="3627360" y="3860640"/>
            <a:chExt cx="1375920" cy="1584000"/>
          </a:xfrm>
        </p:grpSpPr>
        <p:grpSp>
          <p:nvGrpSpPr>
            <p:cNvPr id="147" name=""/>
            <p:cNvGrpSpPr/>
            <p:nvPr/>
          </p:nvGrpSpPr>
          <p:grpSpPr>
            <a:xfrm>
              <a:off x="3698640" y="3860640"/>
              <a:ext cx="583920" cy="720360"/>
              <a:chOff x="3698640" y="3860640"/>
              <a:chExt cx="583920" cy="72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3698640" y="39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38760" y="38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19360" y="3860640"/>
              <a:ext cx="583920" cy="720360"/>
              <a:chOff x="4419360" y="3860640"/>
              <a:chExt cx="583920" cy="720360"/>
            </a:xfrm>
          </p:grpSpPr>
          <p:sp>
            <p:nvSpPr>
              <p:cNvPr id="151" name=""/>
              <p:cNvSpPr/>
              <p:nvPr/>
            </p:nvSpPr>
            <p:spPr>
              <a:xfrm>
                <a:off x="4419360" y="39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59480" y="38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627360" y="4724280"/>
              <a:ext cx="583920" cy="720360"/>
              <a:chOff x="3627360" y="4724280"/>
              <a:chExt cx="583920" cy="72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3627360" y="486108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67480" y="472428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419360" y="4724280"/>
              <a:ext cx="583920" cy="720360"/>
              <a:chOff x="4419360" y="4724280"/>
              <a:chExt cx="583920" cy="720360"/>
            </a:xfrm>
          </p:grpSpPr>
          <p:sp>
            <p:nvSpPr>
              <p:cNvPr id="157" name=""/>
              <p:cNvSpPr/>
              <p:nvPr/>
            </p:nvSpPr>
            <p:spPr>
              <a:xfrm>
                <a:off x="4419360" y="486108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59480" y="472428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niños a los 4 años ya usan la 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205000"/>
            <a:ext cx="3230640" cy="323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95928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ños que tardó en alcanzar un mercado de 50 millones de usu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597240" cy="893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476360" y="5373720"/>
            <a:ext cx="863640" cy="7826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901800" cy="928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771640" y="3500280"/>
            <a:ext cx="504036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028000" y="31417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4651200"/>
            <a:ext cx="151308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0" y="429264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43280" y="5805360"/>
            <a:ext cx="57636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708360" y="5445000"/>
            <a:ext cx="287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1984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1992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1.000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2006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600.000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Vivimos en tiempos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expon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l primer mensaje de texto comercial se envió en Diciembre d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a cantidad de mensajes de texto que se reciben ho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33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xceden la población del plan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3578400" cy="3578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será el mu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comenzó a usarse por el público en general al principio de 19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ejas que se casó en EEUU en el 2005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3629160"/>
            <a:ext cx="2246400" cy="32288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020000" y="3645000"/>
            <a:ext cx="1914480" cy="3213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4284720" y="480204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ejas que se casó en EEUU en el 200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 conoció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124000" y="3629160"/>
            <a:ext cx="2246400" cy="32288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1914840" cy="3213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284720" y="48020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279520" y="4797360"/>
            <a:ext cx="1212840" cy="13892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5783400" y="4797360"/>
            <a:ext cx="1452600" cy="13892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1908000" y="2565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6012000" y="256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324000" y="184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8028000" y="191628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50867E-006 L 0.21823 -0.00324 E">
                                      <p:cBhvr>
                                        <p:cTn id="367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78035E-007 L -0.22517 -0.00208 E">
                                      <p:cBhvr>
                                        <p:cTn id="371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51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este 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 quién se le hacían esas  preguntas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 A.G.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(Antes de Google)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ell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716360" y="2205000"/>
            <a:ext cx="2801160" cy="3455280"/>
            <a:chOff x="4716360" y="2205000"/>
            <a:chExt cx="2801160" cy="3455280"/>
          </a:xfrm>
        </p:grpSpPr>
        <p:sp>
          <p:nvSpPr>
            <p:cNvPr id="163" name=""/>
            <p:cNvSpPr/>
            <p:nvPr/>
          </p:nvSpPr>
          <p:spPr>
            <a:xfrm>
              <a:off x="4716360" y="2861640"/>
              <a:ext cx="2801160" cy="2798640"/>
            </a:xfrm>
            <a:prstGeom prst="smileyFace">
              <a:avLst>
                <a:gd name="adj" fmla="val 9282"/>
              </a:avLst>
            </a:prstGeom>
            <a:noFill/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68000" y="2205000"/>
              <a:ext cx="690120" cy="656640"/>
            </a:xfrm>
            <a:custGeom>
              <a:avLst/>
              <a:gdLst/>
              <a:ahLst/>
              <a:rect l="l" t="t" r="r" b="b"/>
              <a:pathLst>
                <a:path w="190" h="181">
                  <a:moveTo>
                    <a:pt x="0" y="0"/>
                  </a:moveTo>
                  <a:cubicBezTo>
                    <a:pt x="87" y="7"/>
                    <a:pt x="174" y="15"/>
                    <a:pt x="182" y="45"/>
                  </a:cubicBezTo>
                  <a:cubicBezTo>
                    <a:pt x="190" y="75"/>
                    <a:pt x="69" y="158"/>
                    <a:pt x="46" y="181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a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3.000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libros fueron publicad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h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76720" y="3073320"/>
            <a:ext cx="23526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cantidad de información técnica se duplica cada 2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276720" y="3073320"/>
            <a:ext cx="23526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8360" y="314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387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516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844640"/>
            <a:ext cx="352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ara el 2010 se espera que s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uplique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14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836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387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516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1844640"/>
            <a:ext cx="352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ara el 2010 se espera que s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upliqu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da 72 h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24000" y="5569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3149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</a:t>
            </a: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24360" y="177336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1125360"/>
            <a:ext cx="51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2492280"/>
            <a:ext cx="484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51280" y="3870360"/>
            <a:ext cx="484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95640" y="451800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95640" y="5165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334800" y="549360"/>
            <a:ext cx="476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396720" y="314172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45960" y="178128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706320" y="1125360"/>
            <a:ext cx="51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417600" y="2502000"/>
            <a:ext cx="484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-490680" y="3860640"/>
            <a:ext cx="484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-345960" y="4508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345960" y="515772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tercera generación de fibra óptica que ha sido probada recientemente puede transmitir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 billones de bi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r seg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o equivale 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.9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Ds o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5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llones de llamadas telefónicas simultá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254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160720" cy="21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esa cifra se triplica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eis m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10159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254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651640" y="3265560"/>
            <a:ext cx="2736720" cy="26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mente faltaría perfeccionar algunos 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11430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435640" y="3125880"/>
            <a:ext cx="29527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que significa que el costo de este desarrollo es práctic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5640" y="3141720"/>
            <a:ext cx="785988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ce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en 10 años la nación con más anglo parlantes ser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59280" y="3141720"/>
            <a:ext cx="32191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 Black"/>
              </a:rPr>
              <a:t>China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9152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i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 mil millo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e niños viven en naciones en desarroll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1989000"/>
            <a:ext cx="829152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o de t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unca comple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5º g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9640" y="4365720"/>
            <a:ext cx="829152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2005  el proyecto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a computadora por niñ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OLPC) se lanzó para proveer de computadoras a esos ni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primeros envíos ya se han h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435120" cy="34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ños que nunca habían tenido un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0100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y tendrán el mundo en sus m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2284560"/>
            <a:ext cx="3507120" cy="45734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3168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449" name=""/>
          <p:cNvGrpSpPr/>
          <p:nvPr/>
        </p:nvGrpSpPr>
        <p:grpSpPr>
          <a:xfrm>
            <a:off x="4067280" y="1557360"/>
            <a:ext cx="1585080" cy="755280"/>
            <a:chOff x="4067280" y="1557360"/>
            <a:chExt cx="1585080" cy="755280"/>
          </a:xfrm>
        </p:grpSpPr>
        <p:sp>
          <p:nvSpPr>
            <p:cNvPr id="450" name=""/>
            <p:cNvSpPr/>
            <p:nvPr/>
          </p:nvSpPr>
          <p:spPr>
            <a:xfrm>
              <a:off x="4671000" y="1557360"/>
              <a:ext cx="76320" cy="60552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973760" y="1633680"/>
              <a:ext cx="149760" cy="5274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93360" y="1633680"/>
              <a:ext cx="226080" cy="60408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123160" y="1708560"/>
              <a:ext cx="302760" cy="5292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67280" y="1935000"/>
              <a:ext cx="300960" cy="37764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274720" y="2011680"/>
              <a:ext cx="377640" cy="3009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Y estarán comuni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187280" y="2700360"/>
            <a:ext cx="3187800" cy="41576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348000" y="2494080"/>
            <a:ext cx="2879640" cy="287964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4456080" y="1843920"/>
            <a:ext cx="1438200" cy="807120"/>
            <a:chOff x="4456080" y="1843920"/>
            <a:chExt cx="1438200" cy="807120"/>
          </a:xfrm>
        </p:grpSpPr>
        <p:sp>
          <p:nvSpPr>
            <p:cNvPr id="460" name=""/>
            <p:cNvSpPr/>
            <p:nvPr/>
          </p:nvSpPr>
          <p:spPr>
            <a:xfrm flipH="1">
              <a:off x="5028120" y="1879200"/>
              <a:ext cx="69120" cy="5133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36200" y="2058480"/>
              <a:ext cx="258480" cy="39132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32560" y="1843920"/>
              <a:ext cx="69120" cy="5508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356440" y="2197800"/>
              <a:ext cx="399240" cy="3531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56080" y="2030760"/>
              <a:ext cx="189360" cy="3855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478480" y="2503440"/>
              <a:ext cx="415800" cy="1476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940360" y="4005360"/>
            <a:ext cx="296244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t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do los niños nacidos en el 2007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361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do los niños nacidos en el 2007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tengan 6 años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361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capacidad de procesamiento de una super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201600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rán may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12000" y="2460600"/>
            <a:ext cx="2016000" cy="1400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000680" y="2565360"/>
            <a:ext cx="795240" cy="12794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6216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 las del cerebr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012000" y="2460600"/>
            <a:ext cx="2016000" cy="14000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4000680" y="2565360"/>
            <a:ext cx="795240" cy="12794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6216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0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2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3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una computadora de U$S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va a superar la capacidad de proces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839880" cy="1351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867280" y="2276640"/>
            <a:ext cx="2376720" cy="164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e la raza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839880" cy="13510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qué significa todo es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y estamos preparando alumnos para tareas y tecnologías que aún no existen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73040" y="3559320"/>
            <a:ext cx="636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resolver proble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e aún no sabem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e son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4400" spc="-1" strike="noStrike">
                <a:solidFill>
                  <a:srgbClr val="000000"/>
                </a:solidFill>
                <a:latin typeface="Arial"/>
              </a:rPr>
              <a:t>No podemos resolver problemas usando el mismo pensamiento que usamos cuando los creamos”</a:t>
            </a:r>
            <a:br>
              <a:rPr sz="4400"/>
            </a:br>
            <a:br>
              <a:rPr sz="4400"/>
            </a:br>
            <a:r>
              <a:rPr b="1" i="1" lang="es-AR" sz="4000" spc="-1" strike="noStrike">
                <a:solidFill>
                  <a:srgbClr val="0000ff"/>
                </a:solidFill>
                <a:latin typeface="Arial"/>
              </a:rPr>
              <a:t>Albert Einst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sabías qu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recuerd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mpre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apl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analiz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evalú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r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mun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labo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labo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4724280"/>
            <a:ext cx="80866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n proyectos </a:t>
            </a: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todos los d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estamos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ayudando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a nuestros alumnos a estar alfabetizados en el siglo XX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Estamos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recibiendo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los recursos y la capacitación para preparar a nuestros alumnos a ser exitosos en el siglo XX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8218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Qué cambios necesita la legislación educati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9640" y="3860640"/>
            <a:ext cx="82184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uál es tu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visión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2:40:45Z</dcterms:created>
  <dc:creator>María Marta</dc:creator>
  <dc:description/>
  <dc:language>en-US</dc:language>
  <cp:lastModifiedBy>María Marta</cp:lastModifiedBy>
  <dcterms:modified xsi:type="dcterms:W3CDTF">2008-09-02T18:38:01Z</dcterms:modified>
  <cp:revision>71</cp:revision>
  <dc:subject/>
  <dc:title>¿Sabía usted?</dc:title>
</cp:coreProperties>
</file>