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B2A0-76FF-4980-8DD8-5446BC7BC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8FA7-9823-4299-B907-AF089A840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CB80-0516-4654-B334-4E69232A7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0537-4334-4695-8CB7-CBDB4F8D8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22B5-B0EF-46C5-BC44-A47919F48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935C-3279-4883-9EAA-6271B691F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6BF7-0F43-4DF8-A376-5A41604A9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F9FA-C38A-4341-93E9-CE6E04FEF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CF4A-22AA-475C-9FF8-C636AB3B7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BE4B-A172-4054-B55D-14EAFCFE1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F969-BF89-4C12-8357-5BC2F9135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6307-AEF5-4D58-BB0D-2C230A740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1471B-7963-4ED4-82E1-BBCABEC2A9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6360" y="620640"/>
            <a:ext cx="8496360" cy="6476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4000" y="549360"/>
            <a:ext cx="2590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comic"/>
              </a:rPr>
              <a:t>BHOP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348000" y="1563840"/>
            <a:ext cx="2489400" cy="38098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47640" y="5661000"/>
            <a:ext cx="8496360" cy="6476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012000" y="5862600"/>
            <a:ext cx="313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ffffff"/>
                </a:solidFill>
                <a:latin typeface="Harlow Solid Italic"/>
              </a:rPr>
              <a:t>Desastre</a:t>
            </a:r>
            <a:r>
              <a:rPr b="0" i="1" lang="es-MX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s-MX" sz="2800" spc="-1" strike="noStrike">
                <a:solidFill>
                  <a:srgbClr val="ffffff"/>
                </a:solidFill>
                <a:latin typeface="Harlow Solid Italic"/>
              </a:rPr>
              <a:t>Industri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1341360"/>
            <a:ext cx="853272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6453360"/>
            <a:ext cx="853272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920" y="404640"/>
            <a:ext cx="8496360" cy="6480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7840" y="363600"/>
            <a:ext cx="64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Harlow Solid Italic"/>
              </a:rPr>
              <a:t>Cronología Desast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>
            <a:lum bright="-42000"/>
          </a:blip>
          <a:stretch/>
        </p:blipFill>
        <p:spPr>
          <a:xfrm>
            <a:off x="5003640" y="3716280"/>
            <a:ext cx="3311640" cy="21607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>
            <a:lum bright="-24000"/>
          </a:blip>
          <a:stretch/>
        </p:blipFill>
        <p:spPr>
          <a:xfrm>
            <a:off x="395280" y="1413000"/>
            <a:ext cx="3311640" cy="21589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24000" y="1373040"/>
            <a:ext cx="7848360" cy="42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Lucida Fa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Lucida Fax"/>
              </a:rPr>
              <a:t>En la  noche del 2 de diciembre se produce una fuga de 40,000 toneladas de gases tóxic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Lucida Fa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Lucida Fax"/>
              </a:rPr>
              <a:t>Al tercer dí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Lucida Fa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Lucida Fax"/>
              </a:rPr>
              <a:t> </a:t>
            </a:r>
            <a:r>
              <a:rPr b="0" lang="es-MX" sz="1800" spc="-1" strike="noStrike">
                <a:solidFill>
                  <a:srgbClr val="ffffff"/>
                </a:solidFill>
                <a:latin typeface="Lucida Fax"/>
              </a:rPr>
              <a:t>las cifras alcanzaron 8,000 muert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Lucida Fa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Lucida Fax"/>
              </a:rPr>
              <a:t>A partir de ese día 12,000 personas mas han muerto a causa de diversas enfermedades asociadas al escape de los ga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Lucida Fa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Lucida Fax"/>
              </a:rPr>
              <a:t>Cerca de 150,000 sobrevivientes permanecen con secuelas y necesitan atención médica constan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Lucida Fa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Lucida Fax"/>
              </a:rPr>
              <a:t>Niños nacidos después del desastre sufren malformaciones y enfermedades asociadas a estos ga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Lucida Fa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Lucida Fax"/>
              </a:rPr>
              <a:t>La empresa Dow Chemical, dueño actual de la fábrica, se niega a asumir responsabilidad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6360" y="404640"/>
            <a:ext cx="8496360" cy="6480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79280" y="363600"/>
            <a:ext cx="64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Harlow Solid Italic"/>
              </a:rPr>
              <a:t>Según los Exper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>
            <a:lum bright="-42000"/>
          </a:blip>
          <a:stretch/>
        </p:blipFill>
        <p:spPr>
          <a:xfrm>
            <a:off x="5230800" y="4127400"/>
            <a:ext cx="3013200" cy="19656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>
            <a:lum bright="-48000"/>
          </a:blip>
          <a:stretch/>
        </p:blipFill>
        <p:spPr>
          <a:xfrm>
            <a:off x="365040" y="1484280"/>
            <a:ext cx="2838600" cy="18511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50920" y="1413000"/>
            <a:ext cx="8353440" cy="53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Lucida Fa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Lucida Fax"/>
              </a:rPr>
              <a:t>Uso de tecnologías de poco riesgo para el ambi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Lucida Fa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Lucida Fax"/>
              </a:rPr>
              <a:t>El manejo de residuos debe manejarse de acuerdo la tecnología existente de acuerdo a los estándares internacional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Lucida Fa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Lucida Fax"/>
              </a:rPr>
              <a:t>La fábrica de Bhopal no debe de utilizarse como centro de investigación para el manejo de desech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Lucida Fa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Lucida Fax"/>
              </a:rPr>
              <a:t>El problema de la contaminación efectos debe ser resuelto dentro de un tiempo determinad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Lucida Fa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Lucida Fax"/>
              </a:rPr>
              <a:t>Se debe de notificar a los habitantes de la zona de las tecnologías que se utilizan para solucionar el problem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Lucida Fa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Lucida Fax"/>
              </a:rPr>
              <a:t>El impacto a las zonas circundantes debe de minimizarse durante la solu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Lucida Fa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Lucida Fax"/>
              </a:rPr>
              <a:t>El sitio debe de ser limpiado de acuerdo a los estándares de habitabilida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Lucida Fa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Lucida Fax"/>
              </a:rPr>
              <a:t>Las fuentes de agua potable, como mantos acuíferos, debe de sanearse para uso human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Lucida Fa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6360" y="404640"/>
            <a:ext cx="8496360" cy="6480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79280" y="363600"/>
            <a:ext cx="64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Harlow Solid Italic"/>
              </a:rPr>
              <a:t>Peti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>
            <a:lum bright="-36000"/>
          </a:blip>
          <a:stretch/>
        </p:blipFill>
        <p:spPr>
          <a:xfrm>
            <a:off x="324000" y="1557360"/>
            <a:ext cx="3240000" cy="21128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>
            <a:lum bright="-30000"/>
          </a:blip>
          <a:stretch/>
        </p:blipFill>
        <p:spPr>
          <a:xfrm>
            <a:off x="5219640" y="4005360"/>
            <a:ext cx="3270240" cy="21319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50920" y="1461960"/>
            <a:ext cx="8569080" cy="42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ffffff"/>
                </a:solidFill>
                <a:latin typeface="Lucida Fax"/>
              </a:rPr>
              <a:t>GREENPEACE Y LOS SUPERVIVIENTES DE BHOPAL PIDEN A DOW CHEMICAL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Lucida Fa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Lucida Fax"/>
              </a:rPr>
              <a:t>Que asuma los gastos de limpieza del emplazamiento de la fábrica, como ocurriría si ésta hubiese estado en los Estados Unidos, </a:t>
            </a:r>
            <a:br>
              <a:rPr sz="1600"/>
            </a:br>
            <a:r>
              <a:rPr b="0" lang="es-ES" sz="1600" spc="-1" strike="noStrike">
                <a:solidFill>
                  <a:srgbClr val="ffffff"/>
                </a:solidFill>
                <a:latin typeface="Lucida Fax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Lucida Fa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Lucida Fax"/>
              </a:rPr>
              <a:t>Que asegure el tratamiento médico a largo plazo y la rehabilitación médica para los supervivientes del escape </a:t>
            </a:r>
            <a:br>
              <a:rPr sz="1600"/>
            </a:br>
            <a:r>
              <a:rPr b="0" lang="es-ES" sz="1600" spc="-1" strike="noStrike">
                <a:solidFill>
                  <a:srgbClr val="ffffff"/>
                </a:solidFill>
                <a:latin typeface="Lucida Fax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Lucida Fa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Lucida Fax"/>
              </a:rPr>
              <a:t>Que asegure la indemnización económica para las personas afectadas y para sus familias, </a:t>
            </a:r>
            <a:br>
              <a:rPr sz="1600"/>
            </a:br>
            <a:r>
              <a:rPr b="0" lang="es-ES" sz="1600" spc="-1" strike="noStrike">
                <a:solidFill>
                  <a:srgbClr val="ffffff"/>
                </a:solidFill>
                <a:latin typeface="Lucida Fax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Lucida Fa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Lucida Fax"/>
              </a:rPr>
              <a:t>Que proporcione agua potable a las comunidades que se ven obligadas a consumir agua subterránea contaminad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500" spc="-1" strike="noStrike">
                <a:solidFill>
                  <a:srgbClr val="ffffff"/>
                </a:solidFill>
                <a:latin typeface="Lucida Fax"/>
              </a:rPr>
              <a:t>Además, Greenpeace y las organizaciones de supervivientes piden que se establezcan acuerdos internacionales que responsabilicen a las corporaciones criminal y financieramente por los desastres industriales y la contaminación continuada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2T19:01:21Z</dcterms:created>
  <dc:creator>C1</dc:creator>
  <dc:description/>
  <dc:language>en-US</dc:language>
  <cp:lastModifiedBy>C1</cp:lastModifiedBy>
  <dcterms:modified xsi:type="dcterms:W3CDTF">2009-01-22T19:32:51Z</dcterms:modified>
  <cp:revision>2</cp:revision>
  <dc:subject/>
  <dc:title>Diapositiva 1</dc:title>
</cp:coreProperties>
</file>