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C1F-7059-41D2-B759-6CA9E7CC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E5B-55C8-4A8D-9438-9F85E4E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F73-D2CE-4E94-9690-834EF532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87F-E255-4122-9E08-DC7554CC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6B8-0A91-4A38-A23D-8AC840C8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586-60FB-4EDF-B5DC-5889E338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10E-65D7-479E-AF5E-CC6A729B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E87-8757-42E5-9EB4-503B08B9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E64-C532-409C-8806-B51D3C1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B83-E40D-48A2-B33B-36E5BE0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303-DA6F-4477-82BC-E01A398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D13-A340-4ED6-ACC7-AA48FEC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FF67-8A4F-4D6A-BBAA-14155587F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2064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"/>
              </a:rPr>
              <a:t>BHO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563840"/>
            <a:ext cx="248940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66100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86260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Desastre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41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453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84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Cronología Des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003640" y="371628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95280" y="1413000"/>
            <a:ext cx="3311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373040"/>
            <a:ext cx="784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n la  noche del 2 de diciembre se produce una fuga de 40,000 toneladas de gases tóx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l tercer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cifras alcanzaron 8,000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 partir de ese día 12,000 personas mas han muerto a causa de diversas enfermedades asociadas al escape de l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Cerca de 150,000 sobrevivientes permanecen con secuelas y necesitan atención médica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Niños nacidos después del desastre sufren malformaciones y enfermedades asociadas a est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empresa Dow Chemical, dueño actual de la fábrica, se niega a asumir respons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Según los Exp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230800" y="4127400"/>
            <a:ext cx="301320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65040" y="1484280"/>
            <a:ext cx="2838600" cy="185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413000"/>
            <a:ext cx="83534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Uso de tecnologías de poco riesgo para 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manejo de residuos debe manejarse de acuerdo la tecnología existente de acuerdo a los estándares interna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fábrica de Bhopal no debe de utilizarse como centro de investigación para el manejo de desec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problema de la contaminación efectos debe ser resuelto dentro de un tiempo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Se debe de notificar a los habitantes de la zona de las tecnologías que se utilizan para solucionar el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impacto a las zonas circundantes debe de minimizarse durante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sitio debe de ser limpiado de acuerdo a los estándares de habit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fuentes de agua potable, como mantos acuíferos, debe de sanearse para uso hu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Pet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324000" y="1557360"/>
            <a:ext cx="3240000" cy="21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219640" y="4005360"/>
            <a:ext cx="3270240" cy="213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461960"/>
            <a:ext cx="856908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Lucida Fax"/>
              </a:rPr>
              <a:t>GREENPEACE Y LOS SUPERVIVIENTES DE BHOPAL PIDEN A DOW CHEMICA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uma los gastos de limpieza del emplazamiento de la fábrica, como ocurriría si ésta hubiese estado en los Estados Un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el tratamiento médico a largo plazo y la rehabilitación médica para los supervivientes del escap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la indemnización económica para las personas afectadas y para sus familia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proporcione agua potable a las comunidades que se ven obligadas a consumir agua subterránea contami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Lucida Fax"/>
              </a:rPr>
              <a:t>Además, Greenpeace y las organizaciones de supervivientes piden que se establezcan acuerdos internacionales que responsabilicen a las corporaciones criminal y financieramente por los desastres industriales y la contaminación continu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1:21Z</dcterms:created>
  <dc:creator>C1</dc:creator>
  <dc:description/>
  <dc:language>en-US</dc:language>
  <cp:lastModifiedBy>C1</cp:lastModifiedBy>
  <dcterms:modified xsi:type="dcterms:W3CDTF">2009-01-22T19:32:51Z</dcterms:modified>
  <cp:revision>2</cp:revision>
  <dc:subject/>
  <dc:title>Diapositiva 1</dc:title>
</cp:coreProperties>
</file>