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AC47-B3B0-43E4-9640-ADBF81FE7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F4D6-45D9-4263-BAA0-B2EE9909D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64F-157C-4E8B-9681-981ABBDB3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11F-3F74-488B-BCFB-251E93B8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9AFE-D2A9-476C-9D1C-C472AC17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551B-067B-492B-BBC1-F43D2B33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82C2-AE84-4088-AF07-0B507DE78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24DBF-52DD-4807-B751-C27E001A9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911C-A934-4858-83B9-56601F9A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BA45D-D186-407B-87D1-643FE235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00D0-63C0-4B76-8FCA-9C0320F5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B764-03F0-4EE8-B974-81DC1AD13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508B-B7CC-4829-9D80-D08A3734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662E-9F31-445E-9654-C823969D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D651-5E76-4A17-BB9C-80E22A77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F59B-7665-40DD-B3D4-D2DDD864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617A-F82B-490D-BC97-19495A0B2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6B32-BE12-402C-97C7-DB2109F9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6206-3990-4255-A96A-86D864D8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EB8-0EB4-4A08-9F55-E1C3C3DC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0FB7-809E-4031-A35B-18BE9A605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5C56-086F-4A95-A462-92B9C533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11DE-BC4E-429A-B198-6C33C6B8C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1E9-C6E2-4EC3-9E9D-4376B83B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C7A8-98B7-4872-834D-7096CB3C7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A17BB-9BC7-4D4E-9E54-255988937B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b7"/>
                </a:solidFill>
                <a:latin typeface="Arial Black"/>
              </a:rPr>
              <a:t>Bambú japoné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98152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836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3827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 hay que ser agricultor para saber que una buena cosecha requiere de buena semilla, buen abono y riego constante. También es obvio que quien cultiva la tierra no se impacienta frente a la semilla sembrada, jalándola con el riesgo de echarla a perder, gritándole con todas sus fuerzas: 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Crece, por favor!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21320" y="476280"/>
            <a:ext cx="4168800" cy="625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933720"/>
            <a:ext cx="852948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Hay algo muy curioso que sucede con el bambú japonés y que lo transforma en no apto para impacientes: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embras la semilla, la abonas,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te ocupas de regarla constantement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meses no sucede nada apreciabl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realidad, no pasa nada con la semilla durante los primeros siete años, a tal punto que, un cultivador inexperto estaría convencido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haber comprado semillas infértiles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819680" cy="3210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11280" y="603000"/>
            <a:ext cx="45370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durante el séptimo año, en un período de sólo seis semanas la planta de bambú crece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mas de 30 metros!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¿Tardó sólo seis semanas crecer?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, la verdad es que se tomó siete años y seis semanas en desarrollars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siete años de aparente inactividad, este bambú estaba generando un complejo sistema de raíces que le permitirían sostener el crecimiento, que iba a tener después de siete año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209760" cy="48294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34080" cy="497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04440"/>
            <a:ext cx="82310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en la vida cotidiana, muchas veces queremos encontrar soluciones rápidas y triunfos apresurados, sin entender que el éxito es simplemente resultado del crecimiento intern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que éste requiere tiempo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igual manera, es necesario entender que en muchas ocasiones estaremos frente a situaciones en las que creemos que nada está sucediendo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esto puede ser extremadamente frustrante.</a:t>
            </a:r>
            <a:br>
              <a:rPr sz="4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036440"/>
            <a:ext cx="417492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esos momento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(que todos tenemos), recordar el ciclo de maduración del bambú japonés y aceptar que "en tanto no bajemos los brazos" ni abandonemos por no "ver" el resultado que esperamos, sí está sucediendo algo, dentro nuestro…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stamos creciendo, madurando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3833640" cy="576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4200" y="1257480"/>
            <a:ext cx="6265800" cy="5067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4963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Quienes no se dan por vencidos, van gradual e imperceptiblemente creando los hábitos y el temple que les permitirá sostener el éxito cuando éste al fin se materialic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 no consigues lo que anhelas, no desesperes...quizá sólo estés echando raíces..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Autor desconocido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9:50:00Z</dcterms:created>
  <dc:creator>María Marta</dc:creator>
  <dc:description/>
  <dc:language>en-US</dc:language>
  <cp:lastModifiedBy>María Marta</cp:lastModifiedBy>
  <dcterms:modified xsi:type="dcterms:W3CDTF">2008-12-16T20:18:50Z</dcterms:modified>
  <cp:revision>9</cp:revision>
  <dc:subject/>
  <dc:title>Bambú japonés</dc:title>
</cp:coreProperties>
</file>