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7A9-956A-46EC-9C92-FD83E7C5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7DC-9F00-4D8F-A134-E7D4252E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BF7-B1F3-44A1-9958-6D1D02A4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FD0-DECE-47BB-8A77-DE422015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4BDA-0AEE-44BC-877E-8BE0A556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3B76-BF17-4B80-8A20-97D10F4B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3309-50D8-4AE8-B87C-4D08AE03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0CFA-B10C-415D-8C8F-4383306D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652C-8298-4726-8077-6D8FE5F6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23F2-059E-425F-A3B5-703D5ACF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BB6F-B0D4-45FA-B546-856A8254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8761-F784-416E-8C63-AFCD802F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B882-24DF-45A5-99D6-F3C65309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4534-A97A-4166-B091-A91327F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BB27-3A64-4C9E-A647-0F38AFDC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4404-62AD-447F-9D57-8BEF0EF0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456E-F34E-462C-835A-C5DE90A5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233-32C0-457A-A19B-E23DA8D3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B33-6BA3-4A24-B0B6-CD5B1458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90B-5D13-46DE-8787-A3DCEB73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474-D78B-4F56-9D4E-C0AB8A05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E9D-92C2-4B46-A8B4-22ACFD49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490-D810-4317-8398-3BEF4A52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85F-6A07-44D4-99A6-ED39DAF1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2759-5564-48A8-9286-0239E3A01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981B-93A0-4C72-AA32-A51EF66ED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b7"/>
                </a:solidFill>
                <a:latin typeface="Arial Black"/>
              </a:rPr>
              <a:t>Bambú japoné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298152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836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38275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No hay que ser agricultor para saber que una buena cosecha requiere de buena semilla, buen abono y riego constante. También es obvio que quien cultiva la tierra no se impacienta frente a la semilla sembrada, jalándola con el riesgo de echarla a perder, gritándole con todas sus fuerzas: 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¡Crece, por favor!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21320" y="476280"/>
            <a:ext cx="4168800" cy="6259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933720"/>
            <a:ext cx="852948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Hay algo muy curioso que sucede con el bambú japonés y que lo transforma en no apto para impacientes: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embras la semilla, la abonas,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te ocupas de regarla constantemente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urante los primeros meses no sucede nada apreciable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n realidad, no pasa nada con la semilla durante los primeros siete años, a tal punto que, un cultivador inexperto estaría convencido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e haber comprado semillas infértiles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4819680" cy="3210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11280" y="603000"/>
            <a:ext cx="453708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n embargo, durante el séptimo año, en un período de sólo seis semanas la planta de bambú crece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¡mas de 30 metros!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¿Tardó sólo seis semanas crecer?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No, la verdad es que se tomó siete años y seis semanas en desarrollarse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urante los primeros siete años de aparente inactividad, este bambú estaba generando un complejo sistema de raíces que le permitirían sostener el crecimiento, que iba a tener después de siete año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209760" cy="48294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634080" cy="497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604440"/>
            <a:ext cx="82310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n embargo, en la vida cotidiana, muchas veces queremos encontrar soluciones rápidas y triunfos apresurados, sin entender que el éxito es simplemente resultado del crecimiento intern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que éste requiere tiempo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e igual manera, es necesario entender que en muchas ocasiones estaremos frente a situaciones en las que creemos que nada está sucediendo.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esto puede ser extremadamente frustrante.</a:t>
            </a:r>
            <a:br>
              <a:rPr sz="4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2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036440"/>
            <a:ext cx="417492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n esos momento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(que todos tenemos), recordar el ciclo de maduración del bambú japonés y aceptar que "en tanto no bajemos los brazos" ni abandonemos por no "ver" el resultado que esperamos, sí está sucediendo algo, dentro nuestro…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stamos creciendo, madurando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88000" y="692280"/>
            <a:ext cx="3833640" cy="576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4200" y="1257480"/>
            <a:ext cx="6265800" cy="5067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49636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Quienes no se dan por vencidos, van gradual e imperceptiblemente creando los hábitos y el temple que les permitirá sostener el éxito cuando éste al fin se materialice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 no consigues lo que anhelas, no desesperes...quizá sólo estés echando raíces..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br>
              <a:rPr sz="2000"/>
            </a:br>
            <a:r>
              <a:rPr b="0" i="1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ES_tradnl" sz="2000" spc="-1" strike="noStrike">
                <a:solidFill>
                  <a:srgbClr val="ffffff"/>
                </a:solidFill>
                <a:latin typeface="Arial Black"/>
              </a:rPr>
              <a:t>Autor desconocido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9:50:00Z</dcterms:created>
  <dc:creator>María Marta</dc:creator>
  <dc:description/>
  <dc:language>en-US</dc:language>
  <cp:lastModifiedBy>María Marta</cp:lastModifiedBy>
  <dcterms:modified xsi:type="dcterms:W3CDTF">2008-12-16T20:18:50Z</dcterms:modified>
  <cp:revision>9</cp:revision>
  <dc:subject/>
  <dc:title>Bambú japonés</dc:title>
</cp:coreProperties>
</file>