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565-ACD6-4037-A964-9809B8E2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BF1-10D3-42A6-B6EB-B3A0E28A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033-FB70-4610-88B1-10F958AB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2D7-0B63-4736-86F9-222F937E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5EC4-94C3-41C2-90B8-591B39A5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0650-FFDF-4725-AE58-1970FAAA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0AD1-7046-4743-99E4-33E6B102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CDB7-798C-44C8-8C05-EA443B22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A6AF-883C-4A14-A956-041C58C6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9695-A4CA-4E2E-AB29-27410111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7323-858B-4536-AB45-F13630FE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CF4-13AB-47DC-B77E-B58EEB7E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41C3-0F3B-4CC1-80C3-1E8F5775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EA61-117A-4EB4-9EA2-1508BAE5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28E1-62D6-4A99-8542-2AD1D34D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3FC1-E857-4181-B32D-B68E0D06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8568-1B16-451C-98CC-7D00C6E9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645-0EF3-4A63-A6AF-4D9F180C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524-221D-4607-8A85-D79C5869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8B1-D2A2-4089-9CE7-B85418D1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B5F-CC7F-4D66-A514-641DB642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669-BF25-46BA-9222-EBFDAE32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7703-7ED9-4A1A-A0D6-9B4E63EA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36B-E29F-47FC-B120-E56D488F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6F4F-2566-48A7-95F9-95EB2194D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D558-204C-4036-96DE-6F74487CA0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ffb7"/>
                </a:solidFill>
                <a:latin typeface="Arial Black"/>
              </a:rPr>
              <a:t>Bambú japoné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298152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8360" y="443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38275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No hay que ser agricultor para saber que una buena cosecha requiere de buena semilla, buen abono y riego constante. También es obvio que quien cultiva la tierra no se impacienta frente a la semilla sembrada, jalándola con el riesgo de echarla a perder, gritándole con todas sus fuerzas: 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¡Crece, por favor!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21320" y="476280"/>
            <a:ext cx="4168800" cy="6259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3933720"/>
            <a:ext cx="852948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Hay algo muy curioso que sucede con el bambú japonés y que lo transforma en no apto para impacientes: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embras la semilla, la abonas,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y te ocupas de regarla constantemente.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urante los primeros meses no sucede nada apreciable.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En realidad, no pasa nada con la semilla durante los primeros siete años, a tal punto que, un cultivador inexperto estaría convencido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e haber comprado semillas infértiles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4819680" cy="3210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11280" y="603000"/>
            <a:ext cx="453708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n embargo, durante el séptimo año, en un período de sólo seis semanas la planta de bambú crece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¡mas de 30 metros!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¿Tardó sólo seis semanas crecer?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No, la verdad es que se tomó siete años y seis semanas en desarrollarse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urante los primeros siete años de aparente inactividad, este bambú estaba generando un complejo sistema de raíces que le permitirían sostener el crecimiento, que iba a tener después de siete años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209760" cy="48294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634080" cy="4978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604440"/>
            <a:ext cx="82310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n embargo, en la vida cotidiana, muchas veces queremos encontrar soluciones rápidas y triunfos apresurados, sin entender que el éxito es simplemente resultado del crecimiento interno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y que éste requiere tiempo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e igual manera, es necesario entender que en muchas ocasiones estaremos frente a situaciones en las que creemos que nada está sucediendo.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Y esto puede ser extremadamente frustrante.</a:t>
            </a:r>
            <a:br>
              <a:rPr sz="4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2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036440"/>
            <a:ext cx="417492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En esos momento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(que todos tenemos), recordar el ciclo de maduración del bambú japonés y aceptar que "en tanto no bajemos los brazos" ni abandonemos por no "ver" el resultado que esperamos, sí está sucediendo algo, dentro nuestro…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Estamos creciendo, madurando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88000" y="692280"/>
            <a:ext cx="3833640" cy="576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4200" y="1257480"/>
            <a:ext cx="6265800" cy="5067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49636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Quienes no se dan por vencidos, van gradual e imperceptiblemente creando los hábitos y el temple que les permitirá sostener el éxito cuando éste al fin se materialice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 no consigues lo que anhelas, no desesperes...quizá sólo estés echando raíces..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 </a:t>
            </a:r>
            <a:br>
              <a:rPr sz="2000"/>
            </a:br>
            <a:r>
              <a:rPr b="0" i="1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es-ES_tradnl" sz="2000" spc="-1" strike="noStrike">
                <a:solidFill>
                  <a:srgbClr val="ffffff"/>
                </a:solidFill>
                <a:latin typeface="Arial Black"/>
              </a:rPr>
              <a:t>Autor desconocido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9:50:00Z</dcterms:created>
  <dc:creator>María Marta</dc:creator>
  <dc:description/>
  <dc:language>en-US</dc:language>
  <cp:lastModifiedBy>María Marta</cp:lastModifiedBy>
  <dcterms:modified xsi:type="dcterms:W3CDTF">2008-12-16T20:18:50Z</dcterms:modified>
  <cp:revision>9</cp:revision>
  <dc:subject/>
  <dc:title>Bambú japonés</dc:title>
</cp:coreProperties>
</file>