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9F98-E45C-49D0-A3BF-DF9569D5D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02DA-D4A9-4005-88E6-C41A0975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3170-5912-402D-8DF5-F6B209765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6E2C-CB58-462E-A859-076E4E5D8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7F18-6418-46EE-9537-8A503211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EABC-FE26-4D81-9BF5-992D285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0B155-1B2C-4C37-B879-F069A3BC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0107-4800-43D6-9299-8A16A33F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B0FD-20A7-4CE9-A1CC-E77B448C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0A6F-BE7B-40D4-9D14-F26A14B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F802-D592-4764-B54D-421E114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4874-0600-4C0A-89A8-8E1E6B43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970B-AA6F-467A-8304-D4F0F07A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23B1C-3DFB-4C64-9540-3FFBAC72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4D5-4443-4B1B-B921-DEF863AD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C2550-36D8-4A92-A4C6-37C7DAD70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36AD-BD9B-4F71-A14B-0EDC1CDE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C01B-48D7-4E4F-AC47-EA366F3E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54D8-3BBD-4DC3-BBEF-DFFC1F52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DB8-ACD9-4785-8E84-0B785B11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4545-89C5-4017-B799-E9A1B85AC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BB2A-5252-4763-9B11-995E0AF3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CEEB-8BA9-40E5-8799-EC942B65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8FF-46D7-4B8E-820E-BA61D056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9010-1DAE-4CED-ACBB-BEB20037EC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9E975-4703-453D-8A3C-C45876812B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86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ffb7"/>
                </a:solidFill>
                <a:latin typeface="Arial Black"/>
              </a:rPr>
              <a:t>Bambú japoné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2981520" cy="3809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8388360" y="4437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3827520" cy="42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 hay que ser agricultor para saber que una buena cosecha requiere de buena semilla, buen abono y riego constante. También es obvio que quien cultiva la tierra no se impacienta frente a la semilla sembrada, jalándola con el riesgo de echarla a perder, gritándole con todas sus fuerzas: 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Crece, por favor!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21320" y="476280"/>
            <a:ext cx="4168800" cy="6259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3640" y="3933720"/>
            <a:ext cx="8529480" cy="22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Hay algo muy curioso que sucede con el bambú japonés y que lo transforma en no apto para impacientes: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embras la semilla, la abonas,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te ocupas de regarla constantement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meses no sucede nada apreciable.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realidad, no pasa nada con la semilla durante los primeros siete años, a tal punto que, un cultivador inexperto estaría convencido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haber comprado semillas infértiles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050920" y="333360"/>
            <a:ext cx="4819680" cy="3210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11280" y="603000"/>
            <a:ext cx="4537080" cy="54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durante el séptimo año, en un período de sólo seis semanas la planta de bambú crece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¡mas de 30 metros!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¿Tardó sólo seis semanas crecer?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No, la verdad es que se tomó siete años y seis semanas en desarrollars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urante los primeros siete años de aparente inactividad, este bambú estaba generando un complejo sistema de raíces que le permitirían sostener el crecimiento, que iba a tener después de siete años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209760" cy="4829400"/>
          </a:xfrm>
          <a:prstGeom prst="rect">
            <a:avLst/>
          </a:prstGeom>
          <a:ln w="0">
            <a:noFill/>
          </a:ln>
        </p:spPr>
      </p:pic>
    </p:spTree>
  </p:cSld>
  <p:transition spd="slow"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403280" y="1557360"/>
            <a:ext cx="6634080" cy="4978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604440"/>
            <a:ext cx="823104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n embargo, en la vida cotidiana, muchas veces queremos encontrar soluciones rápidas y triunfos apresurados, sin entender que el éxito es simplemente resultado del crecimiento interno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que éste requiere tiempo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De igual manera, es necesario entender que en muchas ocasiones estaremos frente a situaciones en las que creemos que nada está sucediendo.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Y esto puede ser extremadamente frustrante.</a:t>
            </a:r>
            <a:br>
              <a:rPr sz="4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1036440"/>
            <a:ext cx="4174920" cy="46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n esos momentos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(que todos tenemos), recordar el ciclo de maduración del bambú japonés y aceptar que "en tanto no bajemos los brazos" ni abandonemos por no "ver" el resultado que esperamos, sí está sucediendo algo, dentro nuestro…</a:t>
            </a:r>
            <a:br>
              <a:rPr sz="2000"/>
            </a:b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Estamos creciendo, madurando.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788000" y="692280"/>
            <a:ext cx="3833640" cy="5761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4200" y="1257480"/>
            <a:ext cx="6265800" cy="5067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49636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Quienes no se dan por vencidos, van gradual e imperceptiblemente creando los hábitos y el temple que les permitirá sostener el éxito cuando éste al fin se materialice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Si no consigues lo que anhelas, no desesperes...quizá sólo estés echando raíces...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Arial Black"/>
              </a:rPr>
              <a:t> </a:t>
            </a: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i="1" lang="es-ES_tradnl" sz="2000" spc="-1" strike="noStrike">
                <a:solidFill>
                  <a:srgbClr val="ffffff"/>
                </a:solidFill>
                <a:latin typeface="Arial Black"/>
              </a:rPr>
              <a:t>Autor desconocido</a:t>
            </a:r>
            <a:br>
              <a:rPr sz="2000"/>
            </a:b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 spd="slow" advTm="10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19:50:00Z</dcterms:created>
  <dc:creator>María Marta</dc:creator>
  <dc:description/>
  <dc:language>en-US</dc:language>
  <cp:lastModifiedBy>María Marta</cp:lastModifiedBy>
  <dcterms:modified xsi:type="dcterms:W3CDTF">2008-12-16T20:18:50Z</dcterms:modified>
  <cp:revision>9</cp:revision>
  <dc:subject/>
  <dc:title>Bambú japonés</dc:title>
</cp:coreProperties>
</file>