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85E6-CB8B-436A-9911-3BFFC7173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367C-96EB-458B-8376-F1B2F04B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4591-9A1D-4395-A9B4-4589298E1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A56F-F1DF-4C38-AFD4-00F3DA977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3AAE-05BC-4238-8559-90F3DAE7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1FD1-5955-4C75-B03C-66DAD4F0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9EC4-F1F2-456F-9F9D-AA398951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B921-9E3F-49F1-ACB6-12133D10B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FC3A-E5E7-42E7-B5C1-120817A1F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7175-A366-4C7E-B2D7-BED7B406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5426-0A03-4D9F-870E-4D61C96E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3C0B-9ABE-4293-A7F8-B3E42E3C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205E-61A4-4440-937D-B4690B605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archives.cnn.com/2000/ASIANOW/entertainment/05/16/bhopal.express/map.india.bhopal.gif&amp;imgrefurl=http://www.cnn.com/2000/ASIANOW/entertainment/05/16/bhopal.express/index.html&amp;usg=__3QwiMU-UwHXh60Zgz1jq0m59lzc=&amp;h=509&amp;w=463&amp;sz=20&amp;hl=es&amp;start=6&amp;tbnid=tKxOXRISnHt1mM:&amp;tbnh=131&amp;tbnw=119&amp;prev=/images%3Fq%3Dbhopal%26gbv%3D2%26hl%3Des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.mx/imgres?imgurl=http://farm1.static.flickr.com/191/449940358_5f5890d6b0.jpg&amp;imgrefurl=http://asiaviaje.com/little-india-el-barrio-hindu-de-singapur/&amp;usg=__tXFQJiOyHe8wHHSWyJ9PAzpw2sA=&amp;h=375&amp;w=500&amp;sz=189&amp;hl=es&amp;start=4&amp;tbnid=g4jnIPprjKYTZM:&amp;tbnh=98&amp;tbnw=130&amp;prev=/images%3Fq%3Dcasas%2Bhindu%26gbv%3D2%26hl%3Des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www.asmalldoseof.org/historyoftox/1970-2006/Time_Bhopal.jpg&amp;imgrefurl=http://www.asmalldoseof.org/historyoftox/1970-2006.htox.php&amp;usg=__8x4YwOl3jwFw0eCXtSj-Z77KBHI=&amp;h=397&amp;w=300&amp;sz=46&amp;hl=es&amp;start=1&amp;tbnid=6PFUJmMaz54RUM:&amp;tbnh=124&amp;tbnw=94&amp;prev=/images%3Fq%3Dbhopal%26gbv%3D2%26hl%3Des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23120" y="1116000"/>
            <a:ext cx="775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¿QUE TE DICE LA PALABRA “BHOP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292720" y="6093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¿QUÉ SERÁ?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981000"/>
            <a:ext cx="3270240" cy="3600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H="1">
            <a:off x="2842920" y="1989000"/>
            <a:ext cx="280836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51640" y="177336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quí viv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72360" y="2276640"/>
            <a:ext cx="2303280" cy="1736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4360" y="1557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hora vivo aqu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3645000"/>
            <a:ext cx="2139840" cy="2822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95280" y="2060640"/>
            <a:ext cx="3600360" cy="2309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589800" y="314172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Y estoy asi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compañías responsables de la producción, uso y liberación de sustancias tóxicas al ambiente deben ser consideradas responsables por las vidas que arruin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59280" y="3933720"/>
            <a:ext cx="3816360" cy="2708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42920" y="620640"/>
            <a:ext cx="669600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YÚDANOS A CAMBIAR!!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24000" y="2060640"/>
            <a:ext cx="1133640" cy="1133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140360" y="1916280"/>
            <a:ext cx="2338200" cy="1406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08000" y="1700280"/>
            <a:ext cx="4365720" cy="4402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284720" y="1628640"/>
            <a:ext cx="4284720" cy="3213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9:03:59Z</dcterms:created>
  <dc:creator>C1</dc:creator>
  <dc:description/>
  <dc:language>en-US</dc:language>
  <cp:lastModifiedBy>C1</cp:lastModifiedBy>
  <dcterms:modified xsi:type="dcterms:W3CDTF">2009-01-22T19:21:22Z</dcterms:modified>
  <cp:revision>5</cp:revision>
  <dc:subject/>
  <dc:title>Diapositiva 1</dc:title>
</cp:coreProperties>
</file>