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412-CD03-406A-A07E-2D66B4A8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3A1-B78D-4C0E-BEE2-1C9DC0A7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3E6-A49C-46DB-9A39-62094546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88E-65B5-46CF-A748-426E0F1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035-E081-4BFA-BD66-AC42D1D5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964-DD1F-45C3-9152-878F589B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E93-D8F7-483E-A2BE-33BCC4F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FA5-27CB-4123-9A29-AB5A6657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1AE-6884-4FA0-9FDD-DE97D09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2D7-C02F-40A9-B398-5B292150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53F-0DE2-47C1-B2C7-9CBC9C7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33B-9321-4305-89CF-E6853D1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FD45-9270-461A-ACEA-BF53CBD8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archives.cnn.com/2000/ASIANOW/entertainment/05/16/bhopal.express/map.india.bhopal.gif&amp;imgrefurl=http://www.cnn.com/2000/ASIANOW/entertainment/05/16/bhopal.express/index.html&amp;usg=__3QwiMU-UwHXh60Zgz1jq0m59lzc=&amp;h=509&amp;w=463&amp;sz=20&amp;hl=es&amp;start=6&amp;tbnid=tKxOXRISnHt1mM:&amp;tbnh=131&amp;tbnw=119&amp;prev=/images%3Fq%3Dbhopal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mx/imgres?imgurl=http://farm1.static.flickr.com/191/449940358_5f5890d6b0.jpg&amp;imgrefurl=http://asiaviaje.com/little-india-el-barrio-hindu-de-singapur/&amp;usg=__tXFQJiOyHe8wHHSWyJ9PAzpw2sA=&amp;h=375&amp;w=500&amp;sz=189&amp;hl=es&amp;start=4&amp;tbnid=g4jnIPprjKYTZM:&amp;tbnh=98&amp;tbnw=130&amp;prev=/images%3Fq%3Dcasas%2Bhindu%26gbv%3D2%26hl%3Des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asmalldoseof.org/historyoftox/1970-2006/Time_Bhopal.jpg&amp;imgrefurl=http://www.asmalldoseof.org/historyoftox/1970-2006.htox.php&amp;usg=__8x4YwOl3jwFw0eCXtSj-Z77KBHI=&amp;h=397&amp;w=300&amp;sz=46&amp;hl=es&amp;start=1&amp;tbnid=6PFUJmMaz54RUM:&amp;tbnh=124&amp;tbnw=94&amp;prev=/images%3Fq%3Dbhopal%26gbv%3D2%26hl%3Des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3120" y="111600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E TE DICE LA PALABRA “BHOP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609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QUÉ SERÁ?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981000"/>
            <a:ext cx="32702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842920" y="1989000"/>
            <a:ext cx="2808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7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quí viv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276640"/>
            <a:ext cx="2303280" cy="173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55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hora vivo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645000"/>
            <a:ext cx="2139840" cy="282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600360" cy="230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9800" y="3141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Y estoy asi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mpañías responsables de la producción, uso y liberación de sustancias tóxicas al ambiente deben ser consideradas responsables por las vidas que arrui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816360" cy="270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920" y="620640"/>
            <a:ext cx="669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YÚDANOS A CAMBIAR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233820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365720" cy="440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3:59Z</dcterms:created>
  <dc:creator>C1</dc:creator>
  <dc:description/>
  <dc:language>en-US</dc:language>
  <cp:lastModifiedBy>C1</cp:lastModifiedBy>
  <dcterms:modified xsi:type="dcterms:W3CDTF">2009-01-22T19:21:22Z</dcterms:modified>
  <cp:revision>5</cp:revision>
  <dc:subject/>
  <dc:title>Diapositiva 1</dc:title>
</cp:coreProperties>
</file>