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3279-B58B-4864-8A04-3FCC0BCF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7831-15E3-4090-8F0B-5018967B4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5005-A76F-4FBA-85E4-B1DBDCCA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D268-9400-4767-9A7F-539815382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1CB-6FFA-4B93-947B-ACBB2E1E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5AD6-B9EA-4C39-96F8-F73913AE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0F38-15AE-46C0-86DE-BAAD677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9B06-E1CA-4C77-8DF5-D4469229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371C-2B17-4078-A1F8-5431622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AFDE-678A-40F0-9991-1A966D02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46A-0BEF-4D02-A1A7-F7F0A8F3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E9D5-8749-45BE-8681-32AD3922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CE4E-1AA8-4381-A549-BF7C9D0FB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archives.cnn.com/2000/ASIANOW/entertainment/05/16/bhopal.express/map.india.bhopal.gif&amp;imgrefurl=http://www.cnn.com/2000/ASIANOW/entertainment/05/16/bhopal.express/index.html&amp;usg=__3QwiMU-UwHXh60Zgz1jq0m59lzc=&amp;h=509&amp;w=463&amp;sz=20&amp;hl=es&amp;start=6&amp;tbnid=tKxOXRISnHt1mM:&amp;tbnh=131&amp;tbnw=119&amp;prev=/images%3Fq%3Dbhopal%26gbv%3D2%26hl%3Des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om.mx/imgres?imgurl=http://farm1.static.flickr.com/191/449940358_5f5890d6b0.jpg&amp;imgrefurl=http://asiaviaje.com/little-india-el-barrio-hindu-de-singapur/&amp;usg=__tXFQJiOyHe8wHHSWyJ9PAzpw2sA=&amp;h=375&amp;w=500&amp;sz=189&amp;hl=es&amp;start=4&amp;tbnid=g4jnIPprjKYTZM:&amp;tbnh=98&amp;tbnw=130&amp;prev=/images%3Fq%3Dcasas%2Bhindu%26gbv%3D2%26hl%3Des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.mx/imgres?imgurl=http://www.asmalldoseof.org/historyoftox/1970-2006/Time_Bhopal.jpg&amp;imgrefurl=http://www.asmalldoseof.org/historyoftox/1970-2006.htox.php&amp;usg=__8x4YwOl3jwFw0eCXtSj-Z77KBHI=&amp;h=397&amp;w=300&amp;sz=46&amp;hl=es&amp;start=1&amp;tbnid=6PFUJmMaz54RUM:&amp;tbnh=124&amp;tbnw=94&amp;prev=/images%3Fq%3Dbhopal%26gbv%3D2%26hl%3Des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23120" y="1116000"/>
            <a:ext cx="775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¿QUE TE DICE LA PALABRA “BHOP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292720" y="6093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¿QUÉ SERÁ?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981000"/>
            <a:ext cx="3270240" cy="3600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H="1">
            <a:off x="2842920" y="1989000"/>
            <a:ext cx="2808360" cy="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651640" y="177336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quí viv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372360" y="2276640"/>
            <a:ext cx="2303280" cy="1736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155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hora vivo aqu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3645000"/>
            <a:ext cx="2139840" cy="2822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95280" y="2060640"/>
            <a:ext cx="3600360" cy="2309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589800" y="31417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Y estoy asi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ompañías responsables de la producción, uso y liberación de sustancias tóxicas al ambiente deben ser consideradas responsables por las vidas que arruin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3933720"/>
            <a:ext cx="3816360" cy="27082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042920" y="620640"/>
            <a:ext cx="6696000" cy="88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YÚDANOS A CAMBIAR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1133640" cy="1133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40360" y="1916280"/>
            <a:ext cx="2338200" cy="14065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8000" y="1700280"/>
            <a:ext cx="4365720" cy="4402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284720" y="1628640"/>
            <a:ext cx="4284720" cy="3213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03:59Z</dcterms:created>
  <dc:creator>C1</dc:creator>
  <dc:description/>
  <dc:language>en-US</dc:language>
  <cp:lastModifiedBy>C1</cp:lastModifiedBy>
  <dcterms:modified xsi:type="dcterms:W3CDTF">2009-01-22T19:21:22Z</dcterms:modified>
  <cp:revision>5</cp:revision>
  <dc:subject/>
  <dc:title>Diapositiva 1</dc:title>
</cp:coreProperties>
</file>