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00D-666E-469C-9C03-742E8506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119-4F87-46C0-88C9-5EFE7768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01E-F3F6-4CDD-96BB-4043060C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842-9D8D-42C3-8DA1-D3A4A59E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3EB-E7AA-4727-A915-068B18AB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B2F-3076-4730-8648-9E1D733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EE5-7B71-4A54-8CAB-98490214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19D-3A1D-44FC-90D6-031E03F8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B53-3A15-49EB-B014-6C6C5E1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BC1-2EF4-4A96-9086-B34B602B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861-3931-4675-BDA5-C234ABC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59F-CF44-45BA-A1FB-F649945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F45-70CD-453E-AE50-7C659CDD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archives.cnn.com/2000/ASIANOW/entertainment/05/16/bhopal.express/map.india.bhopal.gif&amp;imgrefurl=http://www.cnn.com/2000/ASIANOW/entertainment/05/16/bhopal.express/index.html&amp;usg=__3QwiMU-UwHXh60Zgz1jq0m59lzc=&amp;h=509&amp;w=463&amp;sz=20&amp;hl=es&amp;start=6&amp;tbnid=tKxOXRISnHt1mM:&amp;tbnh=131&amp;tbnw=119&amp;prev=/images%3Fq%3Dbhopal%26gbv%3D2%26hl%3De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mx/imgres?imgurl=http://farm1.static.flickr.com/191/449940358_5f5890d6b0.jpg&amp;imgrefurl=http://asiaviaje.com/little-india-el-barrio-hindu-de-singapur/&amp;usg=__tXFQJiOyHe8wHHSWyJ9PAzpw2sA=&amp;h=375&amp;w=500&amp;sz=189&amp;hl=es&amp;start=4&amp;tbnid=g4jnIPprjKYTZM:&amp;tbnh=98&amp;tbnw=130&amp;prev=/images%3Fq%3Dcasas%2Bhindu%26gbv%3D2%26hl%3Des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asmalldoseof.org/historyoftox/1970-2006/Time_Bhopal.jpg&amp;imgrefurl=http://www.asmalldoseof.org/historyoftox/1970-2006.htox.php&amp;usg=__8x4YwOl3jwFw0eCXtSj-Z77KBHI=&amp;h=397&amp;w=300&amp;sz=46&amp;hl=es&amp;start=1&amp;tbnid=6PFUJmMaz54RUM:&amp;tbnh=124&amp;tbnw=94&amp;prev=/images%3Fq%3Dbhopal%26gbv%3D2%26hl%3Des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23120" y="111600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E TE DICE LA PALABRA “BHOP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609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QUÉ SERÁ?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981000"/>
            <a:ext cx="32702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842920" y="1989000"/>
            <a:ext cx="2808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7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quí viv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276640"/>
            <a:ext cx="2303280" cy="173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55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hora vivo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3645000"/>
            <a:ext cx="2139840" cy="282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600360" cy="230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89800" y="3141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Y estoy asi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mpañías responsables de la producción, uso y liberación de sustancias tóxicas al ambiente deben ser consideradas responsables por las vidas que arrui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816360" cy="270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2920" y="620640"/>
            <a:ext cx="6696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YÚDANOS A CAMBIAR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2338200" cy="140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700280"/>
            <a:ext cx="4365720" cy="440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84720" y="162864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3:59Z</dcterms:created>
  <dc:creator>C1</dc:creator>
  <dc:description/>
  <dc:language>en-US</dc:language>
  <cp:lastModifiedBy>C1</cp:lastModifiedBy>
  <dcterms:modified xsi:type="dcterms:W3CDTF">2009-01-22T19:21:22Z</dcterms:modified>
  <cp:revision>5</cp:revision>
  <dc:subject/>
  <dc:title>Diapositiva 1</dc:title>
</cp:coreProperties>
</file>