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9.png" ContentType="image/png"/>
  <Override PartName="/ppt/media/image26.gif" ContentType="image/gif"/>
  <Override PartName="/ppt/media/image10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5.wmf" ContentType="image/x-wmf"/>
  <Override PartName="/ppt/media/image4.wmf" ContentType="image/x-wmf"/>
  <Override PartName="/ppt/media/image3.png" ContentType="image/png"/>
  <Override PartName="/ppt/media/image12.gif" ContentType="image/gif"/>
  <Override PartName="/ppt/media/image17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57A-363E-4435-862B-F1E68986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65C5-678C-40AA-8F5A-CC05A580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7769-D187-4ACF-94AB-391F25188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BB2A-F32A-4481-B233-05503899D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994E-37C5-4D2E-88C0-D8BF3A34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258-DCCF-4A11-B6B8-ED8EF9C4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75E-B9CA-4DB6-AD09-51F766D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D5BB-5C24-4F28-B8F9-C9882F61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AAE-1123-432D-BADC-54BC2351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135-94D7-442C-982D-22E0DC9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BFB-80D7-49D6-8A35-096D2275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DA5-61E5-427D-9341-6DCADFA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9A311-1CBC-402D-93F1-35CD9088F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versión original de esta presentación fue creada en un colegio secundario de Colorado (EEUU) para su personal de 150 docentes en agosto de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 el objeto de generar un debate acerca de las necesidades de los estudiantes para ser exitosos </a:t>
            </a: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el Siglo X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junio de 2007 ya había comenzado 5 millones de discusiones alrededor d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hora que lo sabes queremos que te unas a esta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4581360"/>
            <a:ext cx="8218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shifthappens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1341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sarroll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Karl Fisch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thefischbowl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65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 la asistencia de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Scott McLeod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angerousirrelevan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3789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iseñ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XPLAN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xplan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492360" y="5013360"/>
            <a:ext cx="2301840" cy="8697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95280" y="57340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daptado al español por M.M.Caba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17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28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1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un 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47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5 añ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stros alumnos probablemente tend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562120"/>
            <a:ext cx="208908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 flipH="1" rot="21124200">
            <a:off x="5435280" y="2420640"/>
            <a:ext cx="25621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6840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4699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80648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916360" y="2419200"/>
            <a:ext cx="3313080" cy="3314520"/>
            <a:chOff x="2916360" y="2419200"/>
            <a:chExt cx="3313080" cy="3314520"/>
          </a:xfrm>
        </p:grpSpPr>
        <p:grpSp>
          <p:nvGrpSpPr>
            <p:cNvPr id="45" name=""/>
            <p:cNvGrpSpPr/>
            <p:nvPr/>
          </p:nvGrpSpPr>
          <p:grpSpPr>
            <a:xfrm>
              <a:off x="2916360" y="2419200"/>
              <a:ext cx="3313080" cy="3314520"/>
              <a:chOff x="2916360" y="2419200"/>
              <a:chExt cx="3313080" cy="3314520"/>
            </a:xfrm>
          </p:grpSpPr>
          <p:sp>
            <p:nvSpPr>
              <p:cNvPr id="46" name=""/>
              <p:cNvSpPr/>
              <p:nvPr/>
            </p:nvSpPr>
            <p:spPr>
              <a:xfrm>
                <a:off x="2916360" y="2420640"/>
                <a:ext cx="3313080" cy="3313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572000" y="2419200"/>
                <a:ext cx="0" cy="172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V="1">
              <a:off x="4544640" y="3399120"/>
              <a:ext cx="1234080" cy="74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los próximos 8 segun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82736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092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ntes de que cumplan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38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2843280" cy="30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de los cursos de la Enseñanza Superior no existían hace 10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rtes combin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gricultura orgá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-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Qué se estudiará dentro de 10 añ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64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50760" y="9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114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14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1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video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507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jug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31147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3280" y="3300480"/>
            <a:ext cx="43452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n hab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por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3440" y="3284640"/>
            <a:ext cx="1727280" cy="936360"/>
          </a:xfrm>
          <a:prstGeom prst="wedgeEllipseCallout">
            <a:avLst>
              <a:gd name="adj1" fmla="val 62958"/>
              <a:gd name="adj2" fmla="val 6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o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14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50760" y="404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han enviado y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5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mails o mensajes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859280" y="4005360"/>
            <a:ext cx="1584360" cy="1152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io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23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han creado contenido en la we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tos de nosotros lo hemos hec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60720" y="2205000"/>
            <a:ext cx="273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34 nuevos bebés habrán na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6920" y="1557360"/>
            <a:ext cx="2025720" cy="1512360"/>
            <a:chOff x="826920" y="1557360"/>
            <a:chExt cx="2025720" cy="1512360"/>
          </a:xfrm>
        </p:grpSpPr>
        <p:grpSp>
          <p:nvGrpSpPr>
            <p:cNvPr id="52" name=""/>
            <p:cNvGrpSpPr/>
            <p:nvPr/>
          </p:nvGrpSpPr>
          <p:grpSpPr>
            <a:xfrm>
              <a:off x="826920" y="1557360"/>
              <a:ext cx="584280" cy="720360"/>
              <a:chOff x="826920" y="1557360"/>
              <a:chExt cx="584280" cy="720360"/>
            </a:xfrm>
          </p:grpSpPr>
          <p:sp>
            <p:nvSpPr>
              <p:cNvPr id="53" name=""/>
              <p:cNvSpPr/>
              <p:nvPr/>
            </p:nvSpPr>
            <p:spPr>
              <a:xfrm>
                <a:off x="82692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704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547640" y="1557360"/>
              <a:ext cx="584280" cy="720360"/>
              <a:chOff x="1547640" y="1557360"/>
              <a:chExt cx="584280" cy="720360"/>
            </a:xfrm>
          </p:grpSpPr>
          <p:sp>
            <p:nvSpPr>
              <p:cNvPr id="56" name=""/>
              <p:cNvSpPr/>
              <p:nvPr/>
            </p:nvSpPr>
            <p:spPr>
              <a:xfrm>
                <a:off x="154764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776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68360" y="1557360"/>
              <a:ext cx="584280" cy="720360"/>
              <a:chOff x="2268360" y="1557360"/>
              <a:chExt cx="584280" cy="720360"/>
            </a:xfrm>
          </p:grpSpPr>
          <p:sp>
            <p:nvSpPr>
              <p:cNvPr id="59" name=""/>
              <p:cNvSpPr/>
              <p:nvPr/>
            </p:nvSpPr>
            <p:spPr>
              <a:xfrm>
                <a:off x="226836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0848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6920" y="2349360"/>
              <a:ext cx="584280" cy="720360"/>
              <a:chOff x="826920" y="2349360"/>
              <a:chExt cx="584280" cy="720360"/>
            </a:xfrm>
          </p:grpSpPr>
          <p:sp>
            <p:nvSpPr>
              <p:cNvPr id="62" name=""/>
              <p:cNvSpPr/>
              <p:nvPr/>
            </p:nvSpPr>
            <p:spPr>
              <a:xfrm>
                <a:off x="82692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6704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547640" y="2349360"/>
              <a:ext cx="584280" cy="720360"/>
              <a:chOff x="1547640" y="2349360"/>
              <a:chExt cx="584280" cy="720360"/>
            </a:xfrm>
          </p:grpSpPr>
          <p:sp>
            <p:nvSpPr>
              <p:cNvPr id="65" name=""/>
              <p:cNvSpPr/>
              <p:nvPr/>
            </p:nvSpPr>
            <p:spPr>
              <a:xfrm>
                <a:off x="154764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8776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268360" y="2349360"/>
              <a:ext cx="584280" cy="720360"/>
              <a:chOff x="2268360" y="2349360"/>
              <a:chExt cx="584280" cy="720360"/>
            </a:xfrm>
          </p:grpSpPr>
          <p:sp>
            <p:nvSpPr>
              <p:cNvPr id="68" name=""/>
              <p:cNvSpPr/>
              <p:nvPr/>
            </p:nvSpPr>
            <p:spPr>
              <a:xfrm>
                <a:off x="226836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0848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276720" y="2060640"/>
            <a:ext cx="2025000" cy="1512360"/>
            <a:chOff x="3276720" y="2060640"/>
            <a:chExt cx="2025000" cy="1512360"/>
          </a:xfrm>
        </p:grpSpPr>
        <p:grpSp>
          <p:nvGrpSpPr>
            <p:cNvPr id="71" name=""/>
            <p:cNvGrpSpPr/>
            <p:nvPr/>
          </p:nvGrpSpPr>
          <p:grpSpPr>
            <a:xfrm>
              <a:off x="3276720" y="2060640"/>
              <a:ext cx="583920" cy="720360"/>
              <a:chOff x="3276720" y="2060640"/>
              <a:chExt cx="583920" cy="720360"/>
            </a:xfrm>
          </p:grpSpPr>
          <p:sp>
            <p:nvSpPr>
              <p:cNvPr id="72" name=""/>
              <p:cNvSpPr/>
              <p:nvPr/>
            </p:nvSpPr>
            <p:spPr>
              <a:xfrm>
                <a:off x="327672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684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97080" y="2060640"/>
              <a:ext cx="583920" cy="720360"/>
              <a:chOff x="3997080" y="2060640"/>
              <a:chExt cx="583920" cy="720360"/>
            </a:xfrm>
          </p:grpSpPr>
          <p:sp>
            <p:nvSpPr>
              <p:cNvPr id="75" name=""/>
              <p:cNvSpPr/>
              <p:nvPr/>
            </p:nvSpPr>
            <p:spPr>
              <a:xfrm>
                <a:off x="399708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720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717800" y="2060640"/>
              <a:ext cx="583920" cy="720360"/>
              <a:chOff x="4717800" y="2060640"/>
              <a:chExt cx="583920" cy="720360"/>
            </a:xfrm>
          </p:grpSpPr>
          <p:sp>
            <p:nvSpPr>
              <p:cNvPr id="78" name=""/>
              <p:cNvSpPr/>
              <p:nvPr/>
            </p:nvSpPr>
            <p:spPr>
              <a:xfrm>
                <a:off x="471780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792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276720" y="2852640"/>
              <a:ext cx="583920" cy="720360"/>
              <a:chOff x="3276720" y="2852640"/>
              <a:chExt cx="583920" cy="720360"/>
            </a:xfrm>
          </p:grpSpPr>
          <p:sp>
            <p:nvSpPr>
              <p:cNvPr id="81" name=""/>
              <p:cNvSpPr/>
              <p:nvPr/>
            </p:nvSpPr>
            <p:spPr>
              <a:xfrm>
                <a:off x="327672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1684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997080" y="2852640"/>
              <a:ext cx="583920" cy="720360"/>
              <a:chOff x="3997080" y="2852640"/>
              <a:chExt cx="583920" cy="720360"/>
            </a:xfrm>
          </p:grpSpPr>
          <p:sp>
            <p:nvSpPr>
              <p:cNvPr id="84" name=""/>
              <p:cNvSpPr/>
              <p:nvPr/>
            </p:nvSpPr>
            <p:spPr>
              <a:xfrm>
                <a:off x="399708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720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717800" y="2852640"/>
              <a:ext cx="583920" cy="720360"/>
              <a:chOff x="4717800" y="2852640"/>
              <a:chExt cx="583920" cy="720360"/>
            </a:xfrm>
          </p:grpSpPr>
          <p:sp>
            <p:nvSpPr>
              <p:cNvPr id="87" name=""/>
              <p:cNvSpPr/>
              <p:nvPr/>
            </p:nvSpPr>
            <p:spPr>
              <a:xfrm>
                <a:off x="471780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5792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5580000" y="1628640"/>
            <a:ext cx="2025720" cy="1512360"/>
            <a:chOff x="5580000" y="1628640"/>
            <a:chExt cx="2025720" cy="1512360"/>
          </a:xfrm>
        </p:grpSpPr>
        <p:grpSp>
          <p:nvGrpSpPr>
            <p:cNvPr id="90" name=""/>
            <p:cNvGrpSpPr/>
            <p:nvPr/>
          </p:nvGrpSpPr>
          <p:grpSpPr>
            <a:xfrm>
              <a:off x="5580000" y="1628640"/>
              <a:ext cx="584280" cy="720360"/>
              <a:chOff x="5580000" y="1628640"/>
              <a:chExt cx="584280" cy="720360"/>
            </a:xfrm>
          </p:grpSpPr>
          <p:sp>
            <p:nvSpPr>
              <p:cNvPr id="91" name=""/>
              <p:cNvSpPr/>
              <p:nvPr/>
            </p:nvSpPr>
            <p:spPr>
              <a:xfrm>
                <a:off x="558000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2012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00720" y="1628640"/>
              <a:ext cx="584280" cy="720360"/>
              <a:chOff x="6300720" y="1628640"/>
              <a:chExt cx="584280" cy="720360"/>
            </a:xfrm>
          </p:grpSpPr>
          <p:sp>
            <p:nvSpPr>
              <p:cNvPr id="94" name=""/>
              <p:cNvSpPr/>
              <p:nvPr/>
            </p:nvSpPr>
            <p:spPr>
              <a:xfrm>
                <a:off x="630072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084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21440" y="1628640"/>
              <a:ext cx="584280" cy="720360"/>
              <a:chOff x="7021440" y="1628640"/>
              <a:chExt cx="584280" cy="720360"/>
            </a:xfrm>
          </p:grpSpPr>
          <p:sp>
            <p:nvSpPr>
              <p:cNvPr id="97" name=""/>
              <p:cNvSpPr/>
              <p:nvPr/>
            </p:nvSpPr>
            <p:spPr>
              <a:xfrm>
                <a:off x="702144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6156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580000" y="2420640"/>
              <a:ext cx="584280" cy="720360"/>
              <a:chOff x="5580000" y="2420640"/>
              <a:chExt cx="584280" cy="720360"/>
            </a:xfrm>
          </p:grpSpPr>
          <p:sp>
            <p:nvSpPr>
              <p:cNvPr id="100" name=""/>
              <p:cNvSpPr/>
              <p:nvPr/>
            </p:nvSpPr>
            <p:spPr>
              <a:xfrm>
                <a:off x="558000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2012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00720" y="2420640"/>
              <a:ext cx="584280" cy="720360"/>
              <a:chOff x="6300720" y="2420640"/>
              <a:chExt cx="584280" cy="720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30072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4084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21440" y="2420640"/>
              <a:ext cx="584280" cy="720360"/>
              <a:chOff x="7021440" y="2420640"/>
              <a:chExt cx="584280" cy="720360"/>
            </a:xfrm>
          </p:grpSpPr>
          <p:sp>
            <p:nvSpPr>
              <p:cNvPr id="106" name=""/>
              <p:cNvSpPr/>
              <p:nvPr/>
            </p:nvSpPr>
            <p:spPr>
              <a:xfrm>
                <a:off x="702144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6156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580000" y="3573360"/>
            <a:ext cx="2025720" cy="1512360"/>
            <a:chOff x="5580000" y="3573360"/>
            <a:chExt cx="2025720" cy="1512360"/>
          </a:xfrm>
        </p:grpSpPr>
        <p:grpSp>
          <p:nvGrpSpPr>
            <p:cNvPr id="109" name=""/>
            <p:cNvGrpSpPr/>
            <p:nvPr/>
          </p:nvGrpSpPr>
          <p:grpSpPr>
            <a:xfrm>
              <a:off x="5580000" y="3573360"/>
              <a:ext cx="584280" cy="720360"/>
              <a:chOff x="5580000" y="3573360"/>
              <a:chExt cx="584280" cy="72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58000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2012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00720" y="3573360"/>
              <a:ext cx="584280" cy="720360"/>
              <a:chOff x="6300720" y="3573360"/>
              <a:chExt cx="584280" cy="72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630072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4084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1440" y="3573360"/>
              <a:ext cx="584280" cy="720360"/>
              <a:chOff x="7021440" y="3573360"/>
              <a:chExt cx="584280" cy="72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70214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615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80000" y="4365360"/>
              <a:ext cx="584280" cy="720360"/>
              <a:chOff x="5580000" y="4365360"/>
              <a:chExt cx="584280" cy="72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558000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2012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00720" y="4365360"/>
              <a:ext cx="584280" cy="720360"/>
              <a:chOff x="6300720" y="4365360"/>
              <a:chExt cx="584280" cy="72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630072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4084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21440" y="4365360"/>
              <a:ext cx="584280" cy="720360"/>
              <a:chOff x="7021440" y="4365360"/>
              <a:chExt cx="584280" cy="72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70214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615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971640" y="3573360"/>
            <a:ext cx="2025720" cy="1512360"/>
            <a:chOff x="971640" y="3573360"/>
            <a:chExt cx="2025720" cy="15123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3573360"/>
              <a:ext cx="584280" cy="720360"/>
              <a:chOff x="971640" y="3573360"/>
              <a:chExt cx="584280" cy="72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9716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17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92360" y="3573360"/>
              <a:ext cx="584280" cy="720360"/>
              <a:chOff x="1692360" y="3573360"/>
              <a:chExt cx="584280" cy="72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169236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3248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13080" y="3573360"/>
              <a:ext cx="584280" cy="720360"/>
              <a:chOff x="2413080" y="3573360"/>
              <a:chExt cx="584280" cy="720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308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5320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971640" y="4365360"/>
              <a:ext cx="584280" cy="720360"/>
              <a:chOff x="971640" y="4365360"/>
              <a:chExt cx="584280" cy="720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17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92360" y="4365360"/>
              <a:ext cx="584280" cy="720360"/>
              <a:chOff x="1692360" y="4365360"/>
              <a:chExt cx="584280" cy="72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69236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248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413080" y="4365360"/>
              <a:ext cx="584280" cy="720360"/>
              <a:chOff x="2413080" y="4365360"/>
              <a:chExt cx="584280" cy="720360"/>
            </a:xfrm>
          </p:grpSpPr>
          <p:sp>
            <p:nvSpPr>
              <p:cNvPr id="144" name=""/>
              <p:cNvSpPr/>
              <p:nvPr/>
            </p:nvSpPr>
            <p:spPr>
              <a:xfrm>
                <a:off x="241308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320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627360" y="3860640"/>
            <a:ext cx="1375920" cy="1584000"/>
            <a:chOff x="3627360" y="3860640"/>
            <a:chExt cx="1375920" cy="1584000"/>
          </a:xfrm>
        </p:grpSpPr>
        <p:grpSp>
          <p:nvGrpSpPr>
            <p:cNvPr id="147" name=""/>
            <p:cNvGrpSpPr/>
            <p:nvPr/>
          </p:nvGrpSpPr>
          <p:grpSpPr>
            <a:xfrm>
              <a:off x="3698640" y="3860640"/>
              <a:ext cx="583920" cy="720360"/>
              <a:chOff x="3698640" y="3860640"/>
              <a:chExt cx="583920" cy="72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69864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876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19360" y="3860640"/>
              <a:ext cx="583920" cy="720360"/>
              <a:chOff x="4419360" y="3860640"/>
              <a:chExt cx="583920" cy="72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41936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948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27360" y="4724280"/>
              <a:ext cx="583920" cy="720360"/>
              <a:chOff x="3627360" y="4724280"/>
              <a:chExt cx="583920" cy="72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627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67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419360" y="4724280"/>
              <a:ext cx="583920" cy="720360"/>
              <a:chOff x="4419360" y="4724280"/>
              <a:chExt cx="583920" cy="720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419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59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niños a los 4 años ya usan l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205000"/>
            <a:ext cx="3230640" cy="323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95928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ños que tardó en alcanzar un mercado de 50 millones de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97240" cy="893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76360" y="5373720"/>
            <a:ext cx="863640" cy="782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901800" cy="928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71640" y="3500280"/>
            <a:ext cx="5040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28000" y="3141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4651200"/>
            <a:ext cx="151308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0" y="429264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5805360"/>
            <a:ext cx="576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08360" y="5445000"/>
            <a:ext cx="28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84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92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2006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600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ivimos en tiempos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expon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l primer mensaje de texto comercial se envió en Diciembre d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cantidad de mensajes de texto que se reciben ho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xceden la población del plan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será el mu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comenzó a usarse por el público en general al principio de 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3645000"/>
            <a:ext cx="1914480" cy="321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conoció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12400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1914840" cy="321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279520" y="4797360"/>
            <a:ext cx="1212840" cy="1389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5783400" y="4797360"/>
            <a:ext cx="1452600" cy="1389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601200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32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8028000" y="19162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50867E-006 L 0.21823 -0.00324 E">
                                      <p:cBhvr>
                                        <p:cTn id="36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78035E-007 L -0.22517 -0.00208 E">
                                      <p:cBhvr>
                                        <p:cTn id="37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este 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 quién se le hacían esas  preguntas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A.G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(Antes de Google)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ell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16360" y="2205000"/>
            <a:ext cx="2801160" cy="3455280"/>
            <a:chOff x="4716360" y="2205000"/>
            <a:chExt cx="2801160" cy="3455280"/>
          </a:xfrm>
        </p:grpSpPr>
        <p:sp>
          <p:nvSpPr>
            <p:cNvPr id="163" name=""/>
            <p:cNvSpPr/>
            <p:nvPr/>
          </p:nvSpPr>
          <p:spPr>
            <a:xfrm>
              <a:off x="4716360" y="2861640"/>
              <a:ext cx="2801160" cy="2798640"/>
            </a:xfrm>
            <a:prstGeom prst="smileyFace">
              <a:avLst>
                <a:gd name="adj" fmla="val 9282"/>
              </a:avLst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8000" y="2205000"/>
              <a:ext cx="690120" cy="656640"/>
            </a:xfrm>
            <a:custGeom>
              <a:avLst/>
              <a:gdLst/>
              <a:ahLst/>
              <a:rect l="l" t="t" r="r" b="b"/>
              <a:pathLst>
                <a:path w="190" h="181">
                  <a:moveTo>
                    <a:pt x="0" y="0"/>
                  </a:moveTo>
                  <a:cubicBezTo>
                    <a:pt x="87" y="7"/>
                    <a:pt x="174" y="15"/>
                    <a:pt x="182" y="45"/>
                  </a:cubicBezTo>
                  <a:cubicBezTo>
                    <a:pt x="190" y="75"/>
                    <a:pt x="69" y="158"/>
                    <a:pt x="46" y="181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a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3.000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libros fueron publica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ntidad de información técnica se duplica cada 2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da 72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24000" y="556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49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</a:t>
            </a: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177336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2492280"/>
            <a:ext cx="48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7036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451800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5165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334800" y="549360"/>
            <a:ext cx="47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96720" y="3141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45960" y="178128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70632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417600" y="2502000"/>
            <a:ext cx="484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490680" y="386064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345960" y="4508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345960" y="5157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tercera generación de fibra óptica que ha sido probada recientemente puede transmiti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 billones de b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r seg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 equivale 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.9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Ds o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llones de llamadas telefónicas simultá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160720" cy="21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esa cifra se triplica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ei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0159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651640" y="3265560"/>
            <a:ext cx="27367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mente faltaría perfeccionar algunos 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11430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35640" y="3125880"/>
            <a:ext cx="2952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que significa que el costo de este desarrollo es prác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5640" y="3141720"/>
            <a:ext cx="785988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ce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en 10 años la nación con más anglo parlantes se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59280" y="3141720"/>
            <a:ext cx="32191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</a:rPr>
              <a:t>Chin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9152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i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 mil mill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 niños viven en naciones en desarrol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989000"/>
            <a:ext cx="8291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o de t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nca comple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5º g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365720"/>
            <a:ext cx="82915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2005  el proyecto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a computadora por niñ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OLPC) se lanzó para proveer de computadoras a esos ni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imeros envíos ya se han h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ños que nunca habían tenido un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0100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y tendrán el mundo en sus 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284560"/>
            <a:ext cx="3507120" cy="4573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4067280" y="1557360"/>
            <a:ext cx="1585080" cy="755280"/>
            <a:chOff x="4067280" y="1557360"/>
            <a:chExt cx="1585080" cy="755280"/>
          </a:xfrm>
        </p:grpSpPr>
        <p:sp>
          <p:nvSpPr>
            <p:cNvPr id="450" name=""/>
            <p:cNvSpPr/>
            <p:nvPr/>
          </p:nvSpPr>
          <p:spPr>
            <a:xfrm>
              <a:off x="4671000" y="1557360"/>
              <a:ext cx="76320" cy="6055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973760" y="1633680"/>
              <a:ext cx="149760" cy="5274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93360" y="1633680"/>
              <a:ext cx="226080" cy="60408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23160" y="1708560"/>
              <a:ext cx="302760" cy="5292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67280" y="1935000"/>
              <a:ext cx="300960" cy="37764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74720" y="2011680"/>
              <a:ext cx="377640" cy="3009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Y estarán comun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3187800" cy="4157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348000" y="2494080"/>
            <a:ext cx="2879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4456080" y="1843920"/>
            <a:ext cx="1438200" cy="807120"/>
            <a:chOff x="4456080" y="1843920"/>
            <a:chExt cx="1438200" cy="807120"/>
          </a:xfrm>
        </p:grpSpPr>
        <p:sp>
          <p:nvSpPr>
            <p:cNvPr id="460" name=""/>
            <p:cNvSpPr/>
            <p:nvPr/>
          </p:nvSpPr>
          <p:spPr>
            <a:xfrm flipH="1">
              <a:off x="5028120" y="1879200"/>
              <a:ext cx="69120" cy="5133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36200" y="2058480"/>
              <a:ext cx="258480" cy="3913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32560" y="1843920"/>
              <a:ext cx="69120" cy="5508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356440" y="2197800"/>
              <a:ext cx="399240" cy="3531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56080" y="2030760"/>
              <a:ext cx="189360" cy="3855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78480" y="2503440"/>
              <a:ext cx="415800" cy="1476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940360" y="4005360"/>
            <a:ext cx="296244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tengan 6 años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pacidad de procesamiento de una super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0160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rán may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 las del cerebr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0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3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una computadora de U$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a a superar la capacidad de proces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867280" y="2276640"/>
            <a:ext cx="2376720" cy="16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la ra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qué significa todo es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y estamos preparando alumnos para tareas y tecnologías que aún no existe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73040" y="3559320"/>
            <a:ext cx="636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resolver proble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aún no sabe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so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No podemos resolver problemas usando el mismo pensamiento que usamos cuando los creamos”</a:t>
            </a:r>
            <a:br>
              <a:rPr sz="4400"/>
            </a:br>
            <a:br>
              <a:rPr sz="4400"/>
            </a:br>
            <a:r>
              <a:rPr b="1" i="1" lang="es-AR" sz="4000" spc="-1" strike="noStrike">
                <a:solidFill>
                  <a:srgbClr val="0000ff"/>
                </a:solidFill>
                <a:latin typeface="Arial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sabías 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recuerd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pre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pl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naliz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eval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r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u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4724280"/>
            <a:ext cx="80866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n proyectos </a:t>
            </a: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todos los d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ayuda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a nuestros alumnos a estar alfabetizad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recibie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los recursos y la capacitación para preparar a nuestros alumnos a ser exitos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Qué cambios necesita la legislación educ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860640"/>
            <a:ext cx="8218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uál es tu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visión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2:40:45Z</dcterms:created>
  <dc:creator>María Marta</dc:creator>
  <dc:description/>
  <dc:language>en-US</dc:language>
  <cp:lastModifiedBy>María Marta</cp:lastModifiedBy>
  <dcterms:modified xsi:type="dcterms:W3CDTF">2008-09-02T18:38:01Z</dcterms:modified>
  <cp:revision>71</cp:revision>
  <dc:subject/>
  <dc:title>¿Sabía usted?</dc:title>
</cp:coreProperties>
</file>