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E61E-5077-45C1-9BA7-E5C4EDE37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17B2-44CB-477F-B9E9-808EBAE1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4609-F971-4570-AA3A-690D5B34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5713-5E1E-41C6-B017-411EE376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B02C-5D0B-4F1C-B0C6-9A13F36B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3852-2B19-498F-8571-128F51C4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C5DD-36BB-4B2B-8656-AC6E68BC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4279-69F1-4E60-94E8-ADC63C6C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3B9E-3AAE-4347-AAC0-7BF6CCC4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B83-9DA8-4CD0-90BC-884970B5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68E7-702C-4F65-A751-6E9F6F24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5F1C-AF50-43AA-9CC7-10F8BC23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F783-9533-4DBA-9834-03324FC58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20640"/>
            <a:ext cx="8496360" cy="647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omic"/>
              </a:rPr>
              <a:t>BHO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48000" y="1563840"/>
            <a:ext cx="2489400" cy="3809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47640" y="5661000"/>
            <a:ext cx="8496360" cy="647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2000" y="5862600"/>
            <a:ext cx="31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Harlow Solid Italic"/>
              </a:rPr>
              <a:t>Desastre</a:t>
            </a: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MX" sz="2800" spc="-1" strike="noStrike">
                <a:solidFill>
                  <a:srgbClr val="ffffff"/>
                </a:solidFill>
                <a:latin typeface="Harlow Solid Italic"/>
              </a:rPr>
              <a:t>Industr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341360"/>
            <a:ext cx="85327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6453360"/>
            <a:ext cx="85327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0" y="404640"/>
            <a:ext cx="8496360" cy="64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7840" y="3636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Harlow Solid Italic"/>
              </a:rPr>
              <a:t>Cronología Desas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5003640" y="3716280"/>
            <a:ext cx="3311640" cy="216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395280" y="1413000"/>
            <a:ext cx="3311640" cy="2158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1373040"/>
            <a:ext cx="784836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n la  noche del 2 de diciembre se produce una fuga de 40,000 toneladas de gases tóx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Al tercer d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las cifras alcanzaron 8,000 muer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A partir de ese día 12,000 personas mas han muerto a causa de diversas enfermedades asociadas al escape de los g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Cerca de 150,000 sobrevivientes permanecen con secuelas y necesitan atención médica cons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Niños nacidos después del desastre sufren malformaciones y enfermedades asociadas a estos g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La empresa Dow Chemical, dueño actual de la fábrica, se niega a asumir responsabilida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60" y="404640"/>
            <a:ext cx="8496360" cy="64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3636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Harlow Solid Italic"/>
              </a:rPr>
              <a:t>Según los Exper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5230800" y="4127400"/>
            <a:ext cx="3013200" cy="1965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>
            <a:lum bright="-48000"/>
          </a:blip>
          <a:stretch/>
        </p:blipFill>
        <p:spPr>
          <a:xfrm>
            <a:off x="365040" y="1484280"/>
            <a:ext cx="2838600" cy="185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1413000"/>
            <a:ext cx="8353440" cy="53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Uso de tecnologías de poco riesgo para el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l manejo de residuos debe manejarse de acuerdo la tecnología existente de acuerdo a los estándares internacion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La fábrica de Bhopal no debe de utilizarse como centro de investigación para el manejo de desech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l problema de la contaminación efectos debe ser resuelto dentro de un tiempo determin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Se debe de notificar a los habitantes de la zona de las tecnologías que se utilizan para solucionar el proble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l impacto a las zonas circundantes debe de minimizarse durante la 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l sitio debe de ser limpiado de acuerdo a los estándares de habitabili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Las fuentes de agua potable, como mantos acuíferos, debe de sanearse para uso huma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60" y="404640"/>
            <a:ext cx="8496360" cy="64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3636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Harlow Solid Italic"/>
              </a:rPr>
              <a:t>Pet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324000" y="1557360"/>
            <a:ext cx="3240000" cy="2112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219640" y="4005360"/>
            <a:ext cx="3270240" cy="2131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1461960"/>
            <a:ext cx="8569080" cy="42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Lucida Fax"/>
              </a:rPr>
              <a:t>GREENPEACE Y LOS SUPERVIVIENTES DE BHOPAL PIDEN A DOW CHEMICAL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Que asuma los gastos de limpieza del emplazamiento de la fábrica, como ocurriría si ésta hubiese estado en los Estados Unidos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Que asegure el tratamiento médico a largo plazo y la rehabilitación médica para los supervivientes del escape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Que asegure la indemnización económica para las personas afectadas y para sus familias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Que proporcione agua potable a las comunidades que se ven obligadas a consumir agua subterránea contamin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ffffff"/>
                </a:solidFill>
                <a:latin typeface="Lucida Fax"/>
              </a:rPr>
              <a:t>Además, Greenpeace y las organizaciones de supervivientes piden que se establezcan acuerdos internacionales que responsabilicen a las corporaciones criminal y financieramente por los desastres industriales y la contaminación continuad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9:01:21Z</dcterms:created>
  <dc:creator>C1</dc:creator>
  <dc:description/>
  <dc:language>en-US</dc:language>
  <cp:lastModifiedBy>C1</cp:lastModifiedBy>
  <dcterms:modified xsi:type="dcterms:W3CDTF">2009-01-22T19:32:51Z</dcterms:modified>
  <cp:revision>2</cp:revision>
  <dc:subject/>
  <dc:title>Diapositiva 1</dc:title>
</cp:coreProperties>
</file>