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0E9-4429-461F-88AC-712EBA7F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3EB-CD24-4134-B0C0-CA74CA0C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7BD-DA04-40FB-B93D-58BBD46B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49D-5C8C-4E73-9671-A2349491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431-A7D8-4FFA-A58D-2C34E8B0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1FD-C453-4698-A08A-CD97F2D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14D-8850-47C4-A371-843EEFF3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084-881D-4370-8F1B-19A884BC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019-DF9B-49D0-810E-AB396288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C14-2FAA-4E92-8357-8C903EBA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9C9-6DB6-46EA-9299-607C68E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A27-C1D9-4F75-915B-5DEECD04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911-F21C-4AF5-9C55-A2018DA8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2064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omic"/>
              </a:rPr>
              <a:t>BHO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1563840"/>
            <a:ext cx="248940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640" y="566100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86260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Desastre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41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453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784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Cronología Desa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003640" y="3716280"/>
            <a:ext cx="33116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395280" y="1413000"/>
            <a:ext cx="331164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1373040"/>
            <a:ext cx="7848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n la  noche del 2 de diciembre se produce una fuga de 40,000 toneladas de gases tóx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l tercer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cifras alcanzaron 8,000 mu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 partir de ese día 12,000 personas mas han muerto a causa de diversas enfermedades asociadas al escape de l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Cerca de 150,000 sobrevivientes permanecen con secuelas y necesitan atención médica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Niños nacidos después del desastre sufren malformaciones y enfermedades asociadas a est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empresa Dow Chemical, dueño actual de la fábrica, se niega a asumir respons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Según los Exp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230800" y="4127400"/>
            <a:ext cx="3013200" cy="196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365040" y="1484280"/>
            <a:ext cx="2838600" cy="185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1413000"/>
            <a:ext cx="835344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Uso de tecnologías de poco riesgo para el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manejo de residuos debe manejarse de acuerdo la tecnología existente de acuerdo a los estándares internacio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fábrica de Bhopal no debe de utilizarse como centro de investigación para el manejo de desec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problema de la contaminación efectos debe ser resuelto dentro de un tiempo determin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Se debe de notificar a los habitantes de la zona de las tecnologías que se utilizan para solucionar el probl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impacto a las zonas circundantes debe de minimizarse durante l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sitio debe de ser limpiado de acuerdo a los estándares de habitabi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fuentes de agua potable, como mantos acuíferos, debe de sanearse para uso hu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Pet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324000" y="1557360"/>
            <a:ext cx="3240000" cy="211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219640" y="4005360"/>
            <a:ext cx="3270240" cy="2131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461960"/>
            <a:ext cx="856908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Lucida Fax"/>
              </a:rPr>
              <a:t>GREENPEACE Y LOS SUPERVIVIENTES DE BHOPAL PIDEN A DOW CHEMICAL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uma los gastos de limpieza del emplazamiento de la fábrica, como ocurriría si ésta hubiese estado en los Estados Unido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el tratamiento médico a largo plazo y la rehabilitación médica para los supervivientes del escape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la indemnización económica para las personas afectadas y para sus familia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proporcione agua potable a las comunidades que se ven obligadas a consumir agua subterránea contami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Lucida Fax"/>
              </a:rPr>
              <a:t>Además, Greenpeace y las organizaciones de supervivientes piden que se establezcan acuerdos internacionales que responsabilicen a las corporaciones criminal y financieramente por los desastres industriales y la contaminación continuad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1:21Z</dcterms:created>
  <dc:creator>C1</dc:creator>
  <dc:description/>
  <dc:language>en-US</dc:language>
  <cp:lastModifiedBy>C1</cp:lastModifiedBy>
  <dcterms:modified xsi:type="dcterms:W3CDTF">2009-01-22T19:32:51Z</dcterms:modified>
  <cp:revision>2</cp:revision>
  <dc:subject/>
  <dc:title>Diapositiva 1</dc:title>
</cp:coreProperties>
</file>