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AE06-5624-4BED-A885-5910928D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920-C2F2-4193-8ED5-75FCF2A6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E0B-0A06-4934-B652-14A4E9715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5264-F021-4D3B-BB58-1D8E7BE29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BEBD-668E-430A-8B8F-D6AE623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0B48-1569-4992-B1C2-69819D9A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13CB-71F2-4485-9BE1-BAA93872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4FE-922D-4DB3-93CD-EDC25FAC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5E5-F435-46CA-9CB8-9839C189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D65B-D8DA-431A-9723-36096F1C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CB37A-5871-420E-9346-AD909ACF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9D8-20B5-44C6-BA3C-2300EC55D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689-B903-4CA3-93A3-1A1C8A49A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2064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54936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comic"/>
              </a:rPr>
              <a:t>BHO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48000" y="1563840"/>
            <a:ext cx="2489400" cy="38098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47640" y="5661000"/>
            <a:ext cx="8496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12000" y="5862600"/>
            <a:ext cx="31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Desastre</a:t>
            </a:r>
            <a:r>
              <a:rPr b="0" i="1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s-MX" sz="2800" spc="-1" strike="noStrike">
                <a:solidFill>
                  <a:srgbClr val="ffffff"/>
                </a:solidFill>
                <a:latin typeface="Harlow Solid Italic"/>
              </a:rPr>
              <a:t>Industri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341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6453360"/>
            <a:ext cx="853272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92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784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Cronología Desast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003640" y="3716280"/>
            <a:ext cx="331164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bright="-24000"/>
          </a:blip>
          <a:stretch/>
        </p:blipFill>
        <p:spPr>
          <a:xfrm>
            <a:off x="395280" y="1413000"/>
            <a:ext cx="3311640" cy="2158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24000" y="1373040"/>
            <a:ext cx="784836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n la  noche del 2 de diciembre se produce una fuga de 40,000 toneladas de gases tóx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l tercer d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cifras alcanzaron 8,000 mu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A partir de ese día 12,000 personas mas han muerto a causa de diversas enfermedades asociadas al escape de l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Cerca de 150,000 sobrevivientes permanecen con secuelas y necesitan atención médica consta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Niños nacidos después del desastre sufren malformaciones y enfermedades asociadas a estos g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empresa Dow Chemical, dueño actual de la fábrica, se niega a asumir responsabilidad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Según los Exper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bright="-42000"/>
          </a:blip>
          <a:stretch/>
        </p:blipFill>
        <p:spPr>
          <a:xfrm>
            <a:off x="5230800" y="4127400"/>
            <a:ext cx="3013200" cy="1965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>
            <a:lum bright="-48000"/>
          </a:blip>
          <a:stretch/>
        </p:blipFill>
        <p:spPr>
          <a:xfrm>
            <a:off x="365040" y="1484280"/>
            <a:ext cx="2838600" cy="185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920" y="1413000"/>
            <a:ext cx="8353440" cy="53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Uso de tecnologías de poco riesgo para el amb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manejo de residuos debe manejarse de acuerdo la tecnología existente de acuerdo a los estándares internaciona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 fábrica de Bhopal no debe de utilizarse como centro de investigación para el manejo de desech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problema de la contaminación efectos debe ser resuelto dentro de un tiempo determin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Se debe de notificar a los habitantes de la zona de las tecnologías que se utilizan para solucionar el problem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impacto a las zonas circundantes debe de minimizarse durante la solu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El sitio debe de ser limpiado de acuerdo a los estándares de habitabilida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Lucida Fax"/>
              </a:rPr>
              <a:t>Las fuentes de agua potable, como mantos acuíferos, debe de sanearse para uso huma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6360" y="404640"/>
            <a:ext cx="8496360" cy="64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3636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Harlow Solid Italic"/>
              </a:rPr>
              <a:t>Peti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>
            <a:lum bright="-36000"/>
          </a:blip>
          <a:stretch/>
        </p:blipFill>
        <p:spPr>
          <a:xfrm>
            <a:off x="324000" y="1557360"/>
            <a:ext cx="3240000" cy="2112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5219640" y="4005360"/>
            <a:ext cx="3270240" cy="2131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0920" y="1461960"/>
            <a:ext cx="856908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Lucida Fax"/>
              </a:rPr>
              <a:t>GREENPEACE Y LOS SUPERVIVIENTES DE BHOPAL PIDEN A DOW CHEMICAL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uma los gastos de limpieza del emplazamiento de la fábrica, como ocurriría si ésta hubiese estado en los Estados Unido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el tratamiento médico a largo plazo y la rehabilitación médica para los supervivientes del escape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asegure la indemnización económica para las personas afectadas y para sus familias, </a:t>
            </a:r>
            <a:br>
              <a:rPr sz="1600"/>
            </a:b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Lucida Fax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Lucida Fax"/>
              </a:rPr>
              <a:t>Que proporcione agua potable a las comunidades que se ven obligadas a consumir agua subterránea contaminad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Lucida Fax"/>
              </a:rPr>
              <a:t>Además, Greenpeace y las organizaciones de supervivientes piden que se establezcan acuerdos internacionales que responsabilicen a las corporaciones criminal y financieramente por los desastres industriales y la contaminación continuad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9:01:21Z</dcterms:created>
  <dc:creator>C1</dc:creator>
  <dc:description/>
  <dc:language>en-US</dc:language>
  <cp:lastModifiedBy>C1</cp:lastModifiedBy>
  <dcterms:modified xsi:type="dcterms:W3CDTF">2009-01-22T19:32:51Z</dcterms:modified>
  <cp:revision>2</cp:revision>
  <dc:subject/>
  <dc:title>Diapositiva 1</dc:title>
</cp:coreProperties>
</file>