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3CD-E47B-44FF-8958-D6543056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465-83F3-4C97-B13A-C60B0EB3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30E-0054-4711-AA5B-937CAEE6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D76-680C-448B-B579-07086B43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9F9-5CCE-44DA-B858-4736AC6A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F53-BED6-4D23-958C-DBF2A32D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FBC-E55D-48BE-9A8E-F602C183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64F-0A4B-473B-BF40-C009AD8F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7ED-DEDC-4EC9-A858-F5A2FF52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49B-F3DF-4CEB-8245-09B1A1E3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1B3-26C1-47FB-8B6D-5B5625B1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F49-B0D8-468B-84AB-23D25C16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2D20-C6C6-4D13-A53E-53FEBF7BB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20640"/>
            <a:ext cx="8496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omic"/>
              </a:rPr>
              <a:t>BHO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48000" y="1563840"/>
            <a:ext cx="2489400" cy="380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7640" y="5661000"/>
            <a:ext cx="8496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862600"/>
            <a:ext cx="31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Harlow Solid Italic"/>
              </a:rPr>
              <a:t>Desastre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800" spc="-1" strike="noStrike">
                <a:solidFill>
                  <a:srgbClr val="ffffff"/>
                </a:solidFill>
                <a:latin typeface="Harlow Solid Italic"/>
              </a:rPr>
              <a:t>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41360"/>
            <a:ext cx="853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6453360"/>
            <a:ext cx="853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784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Cronología Desa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5003640" y="3716280"/>
            <a:ext cx="331164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395280" y="1413000"/>
            <a:ext cx="331164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1373040"/>
            <a:ext cx="78483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n la  noche del 2 de diciembre se produce una fuga de 40,000 toneladas de gases tóx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Al tercer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s cifras alcanzaron 8,000 mue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A partir de ese día 12,000 personas mas han muerto a causa de diversas enfermedades asociadas al escape de los g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Cerca de 150,000 sobrevivientes permanecen con secuelas y necesitan atención médica cons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Niños nacidos después del desastre sufren malformaciones y enfermedades asociadas a estos g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 empresa Dow Chemical, dueño actual de la fábrica, se niega a asumir responsabil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6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Según los Exp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5230800" y="4127400"/>
            <a:ext cx="3013200" cy="196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365040" y="1484280"/>
            <a:ext cx="2838600" cy="185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1413000"/>
            <a:ext cx="835344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Uso de tecnologías de poco riesgo para el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manejo de residuos debe manejarse de acuerdo la tecnología existente de acuerdo a los estándares internacion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 fábrica de Bhopal no debe de utilizarse como centro de investigación para el manejo de desech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problema de la contaminación efectos debe ser resuelto dentro de un tiempo determin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Se debe de notificar a los habitantes de la zona de las tecnologías que se utilizan para solucionar el probl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impacto a las zonas circundantes debe de minimizarse durante la 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sitio debe de ser limpiado de acuerdo a los estándares de habitabi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s fuentes de agua potable, como mantos acuíferos, debe de sanearse para uso hum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6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Pet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324000" y="1557360"/>
            <a:ext cx="3240000" cy="211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219640" y="4005360"/>
            <a:ext cx="3270240" cy="2131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461960"/>
            <a:ext cx="856908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Lucida Fax"/>
              </a:rPr>
              <a:t>GREENPEACE Y LOS SUPERVIVIENTES DE BHOPAL PIDEN A DOW CHEMICAL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uma los gastos de limpieza del emplazamiento de la fábrica, como ocurriría si ésta hubiese estado en los Estados Unido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egure el tratamiento médico a largo plazo y la rehabilitación médica para los supervivientes del escape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egure la indemnización económica para las personas afectadas y para sus familia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proporcione agua potable a las comunidades que se ven obligadas a consumir agua subterránea contamin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Lucida Fax"/>
              </a:rPr>
              <a:t>Además, Greenpeace y las organizaciones de supervivientes piden que se establezcan acuerdos internacionales que responsabilicen a las corporaciones criminal y financieramente por los desastres industriales y la contaminación continuad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01:21Z</dcterms:created>
  <dc:creator>C1</dc:creator>
  <dc:description/>
  <dc:language>en-US</dc:language>
  <cp:lastModifiedBy>C1</cp:lastModifiedBy>
  <dcterms:modified xsi:type="dcterms:W3CDTF">2009-01-22T19:32:51Z</dcterms:modified>
  <cp:revision>2</cp:revision>
  <dc:subject/>
  <dc:title>Diapositiva 1</dc:title>
</cp:coreProperties>
</file>